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982-26CF-4354-B2CA-E0A68FF5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863-390F-46E7-976F-79DDA1B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429-6886-4BF4-B8B6-32BD1C5C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9A9-F8AF-4812-BF3E-88704BD9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FA83-12DD-47A4-9881-EA3B6519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7911-E572-4950-B829-61595A76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43EB-1E2B-40D6-AFA8-23D65004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F909-F131-4E5D-A7EA-3FAE952E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C529-3B63-4198-A316-60846A23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7718-DAC4-48D1-83F9-087024BB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33EA-286B-4A56-B61E-20BD068E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F14-BC3F-4F69-9CDC-9A322686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BF38-755E-4C9B-8452-C585F3D9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009B-E947-4D79-9FC5-5DA1DC7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085E-BB9E-4FF5-9800-1ED2EBD3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2CEF-3B5E-4C23-B849-3C4808DD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B958-11C5-4C03-891B-5D99D4FD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C36-BB6B-4F28-A521-4FC38C5E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A20-0774-4780-AB17-AF6DF85E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1BB-BA96-4849-99D4-16BFEBD3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2BF-4233-4CEE-B623-C81688D1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7F3-1E6C-4A24-9AC1-84B6C1BB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54B-01D9-4320-A1D6-D6F2C6FA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522-5896-4A2B-B1DD-51B99EE5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F6EA-3CB9-4A24-8A3E-BC8323B9F9F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FA9B-0EBF-4C27-B76C-50F334E4905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502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1efb3"/>
                </a:solidFill>
                <a:latin typeface="Tahoma"/>
              </a:rPr>
              <a:t>Предложения с обособленными и уточняющими  </a:t>
            </a:r>
            <a:br>
              <a:rPr sz="7200"/>
            </a:br>
            <a:r>
              <a:rPr b="1" lang="ru-RU" sz="7200" spc="-1" strike="noStrike">
                <a:solidFill>
                  <a:srgbClr val="d1efb3"/>
                </a:solidFill>
                <a:latin typeface="Tahoma"/>
              </a:rPr>
              <a:t>        членами. </a:t>
            </a:r>
            <a:endParaRPr b="1" lang="en-US" sz="7200" spc="-1" strike="noStrike">
              <a:solidFill>
                <a:srgbClr val="d1efb3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587840" cy="5891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819600" cy="58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Проверь тест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5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 -1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-4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-4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-3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.  -1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Домашнее задание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720" y="141300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́ндр Васи́льевич Суво́ров (13 (24) ноября 1729, Москва — 6 (18) мая 1800, Санкт-Петербург) — великий русский полководец, один из основоположников русского военного искусства, Светлейший князь Италийский (1799), граф Рымникский (1789) и Священной Римской империи, генералиссимус российских сухопутных и морских сил, генерал-фельдмаршал австрийских и сардинских войск, Сардинского королевства гранд и принц королевской крови, кавалер всех российских и многих иностранных военных орденов. За всю жизнь не потерпел ни одного пора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85760" y="2035080"/>
            <a:ext cx="3353040" cy="405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d1efb3"/>
                </a:solidFill>
                <a:latin typeface="Tahoma"/>
              </a:rPr>
              <a:t>Картина Сурикова В. И. «Переход Суворова через Альпы в 1799 году»</a:t>
            </a:r>
            <a:endParaRPr b="1" lang="en-US" sz="3300" spc="-1" strike="noStrike">
              <a:solidFill>
                <a:srgbClr val="d1efb3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400720" cy="482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эпиграф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ния только тогда знания, когда приобретены усилиями своей мыс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Л.Н.Толсто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девиз урока: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е необходимо разобраться самому, а чтобы разобраться самому, надо думать сообща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.Василь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Урок- практикум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efb3"/>
                </a:solidFill>
                <a:latin typeface="Tahoma"/>
              </a:rPr>
              <a:t>Мы долж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авила обособления определений, приложений, дополнений, обстоятельств и уточняющих членов предложен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тилистическую роль обособленных членов предлож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аходить в тексте, осложненном другими конструкциями, предложения с обособленными членами, выделять их интонацией и знаками препинан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спользовать указанные конструкции в связной р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132560" y="253440"/>
            <a:ext cx="6733440" cy="6347160"/>
            <a:chOff x="1132560" y="253440"/>
            <a:chExt cx="6733440" cy="6347160"/>
          </a:xfrm>
        </p:grpSpPr>
        <p:sp>
          <p:nvSpPr>
            <p:cNvPr id="117" name="_s162820"/>
            <p:cNvSpPr/>
            <p:nvPr/>
          </p:nvSpPr>
          <p:spPr>
            <a:xfrm flipH="1" flipV="1">
              <a:off x="2883240" y="2634480"/>
              <a:ext cx="80784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_s162821"/>
            <p:cNvSpPr/>
            <p:nvPr/>
          </p:nvSpPr>
          <p:spPr>
            <a:xfrm>
              <a:off x="1132560" y="1441440"/>
              <a:ext cx="1872000" cy="1587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. </a:t>
              </a: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Обособление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обстоятельств,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Comic Sans MS"/>
                </a:rPr>
                <a:t>выраженных</a:t>
              </a: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деепричастным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omic Sans MS"/>
                </a:rPr>
                <a:t>оборото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_s162822"/>
            <p:cNvSpPr/>
            <p:nvPr/>
          </p:nvSpPr>
          <p:spPr>
            <a:xfrm flipH="1">
              <a:off x="2883240" y="3822840"/>
              <a:ext cx="80784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_s162823"/>
            <p:cNvSpPr/>
            <p:nvPr/>
          </p:nvSpPr>
          <p:spPr>
            <a:xfrm>
              <a:off x="1132560" y="3822840"/>
              <a:ext cx="1872000" cy="1587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IV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бстоятельств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выраженны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существительным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с предлогами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_s162824"/>
            <p:cNvSpPr/>
            <p:nvPr/>
          </p:nvSpPr>
          <p:spPr>
            <a:xfrm>
              <a:off x="4500000" y="4217040"/>
              <a:ext cx="0" cy="79344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_s162825"/>
            <p:cNvSpPr/>
            <p:nvPr/>
          </p:nvSpPr>
          <p:spPr>
            <a:xfrm>
              <a:off x="3563640" y="5013360"/>
              <a:ext cx="1871280" cy="158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V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уточняющи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членов 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боротов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со значением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ояснения ил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рисоединения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_s162826"/>
            <p:cNvSpPr/>
            <p:nvPr/>
          </p:nvSpPr>
          <p:spPr>
            <a:xfrm>
              <a:off x="5307840" y="3822840"/>
              <a:ext cx="81072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162827"/>
            <p:cNvSpPr/>
            <p:nvPr/>
          </p:nvSpPr>
          <p:spPr>
            <a:xfrm>
              <a:off x="5994000" y="3822840"/>
              <a:ext cx="1872000" cy="1587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VI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дополнени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_s162828"/>
            <p:cNvSpPr/>
            <p:nvPr/>
          </p:nvSpPr>
          <p:spPr>
            <a:xfrm flipV="1">
              <a:off x="5307840" y="2634480"/>
              <a:ext cx="810720" cy="39636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162829"/>
            <p:cNvSpPr/>
            <p:nvPr/>
          </p:nvSpPr>
          <p:spPr>
            <a:xfrm>
              <a:off x="5994000" y="1444680"/>
              <a:ext cx="1872000" cy="158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II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риложени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162830"/>
            <p:cNvSpPr/>
            <p:nvPr/>
          </p:nvSpPr>
          <p:spPr>
            <a:xfrm flipV="1">
              <a:off x="4500000" y="1841040"/>
              <a:ext cx="0" cy="793440"/>
            </a:xfrm>
            <a:prstGeom prst="line">
              <a:avLst/>
            </a:prstGeom>
            <a:ln w="28440">
              <a:solidFill>
                <a:srgbClr val="5586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162831"/>
            <p:cNvSpPr/>
            <p:nvPr/>
          </p:nvSpPr>
          <p:spPr>
            <a:xfrm>
              <a:off x="3563640" y="253440"/>
              <a:ext cx="1871280" cy="1587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8ea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"/>
                </a:rPr>
                <a:t>I</a:t>
              </a: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.Обособ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пределени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162832"/>
            <p:cNvSpPr/>
            <p:nvPr/>
          </p:nvSpPr>
          <p:spPr>
            <a:xfrm>
              <a:off x="3563640" y="2634840"/>
              <a:ext cx="1871280" cy="1587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8f6a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Предложения с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обособленным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"/>
                </a:rPr>
                <a:t>членами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Словарный диктант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нор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це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ерва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рри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печат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уре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нс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фо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бют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ahoma"/>
              </a:rPr>
              <a:t>Новые словарные слова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Реликвия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прототип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103640" cy="5700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67280" y="907920"/>
            <a:ext cx="417672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4059360" cy="597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032000" cy="604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5-03-16T19:35:53Z</dcterms:modified>
  <cp:revision>14</cp:revision>
  <dc:subject/>
  <dc:title>PowerPoint Presentation</dc:title>
</cp:coreProperties>
</file>