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DEF41-89E4-4005-80A4-090F3B0A4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1efb3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9CA56-31BF-42FE-8549-399D20A8E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1efb3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8302B-749F-487F-90F1-4E287DF65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1efb3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D6109-41EB-4F62-88D8-D4DA0908D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EB661-8783-41C3-96AF-CE76AB3D4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1efb3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3B2C8-9B17-411D-A4B8-445259C80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1efb3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51F78-7398-4F4C-97D5-6F161023C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1efb3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405CE-EECD-47F6-93F1-9B64CA302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1efb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C54BA-B5C2-4AEF-9CEE-06ACC0731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B076A-50AA-4266-9FA7-EBE0AC0B6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1efb3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A3FA6-62BF-4BDE-8BA0-1329E6891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1efb3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5FD67-491F-44C4-B548-39BE9B123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1efb3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DE334-5727-4F2D-A33F-AF7F5B62C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1efb3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4782B-58FC-4D71-A44F-1C82C2F6A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1efb3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3D665-A465-4B78-B9A8-44BCFCBE5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1efb3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F95D3-DE40-44B4-AB71-6CC376F7B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1efb3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FDEBE-FB28-4B26-88C8-0A4A623C4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1efb3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ED8DF-41E3-4B28-8808-45C453C5C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1efb3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B4218-7B9E-4FB7-8427-7B6B2B7CB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1efb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43B1A-5417-4631-B134-556F738BF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44839-36BD-4686-BBC6-FCF089226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1efb3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E46B6-EFB2-45BE-B4EC-FCDD0FB60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1efb3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B8B44-B725-4334-9E27-9A418B776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1efb3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8753C-1AAF-4B2D-9F51-48DD21080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5f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55863c"/>
                </a:gs>
                <a:gs pos="100000">
                  <a:srgbClr val="375f2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75f2f"/>
                </a:gs>
                <a:gs pos="100000">
                  <a:srgbClr val="55863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75f2f"/>
                  </a:gs>
                  <a:gs pos="100000">
                    <a:srgbClr val="55863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5863c"/>
                  </a:gs>
                  <a:gs pos="100000">
                    <a:srgbClr val="375f2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75f2f"/>
                  </a:gs>
                  <a:gs pos="100000">
                    <a:srgbClr val="55863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eac66"/>
                  </a:gs>
                  <a:gs pos="100000">
                    <a:srgbClr val="55863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5863c"/>
                  </a:gs>
                  <a:gs pos="100000">
                    <a:srgbClr val="8eac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eac66"/>
                  </a:gs>
                  <a:gs pos="50000">
                    <a:srgbClr val="b4ef7f"/>
                  </a:gs>
                  <a:gs pos="100000">
                    <a:srgbClr val="8eac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eac66"/>
                  </a:gs>
                  <a:gs pos="100000">
                    <a:srgbClr val="55863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5863c"/>
                  </a:gs>
                  <a:gs pos="100000">
                    <a:srgbClr val="8eac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eac66"/>
                  </a:gs>
                  <a:gs pos="50000">
                    <a:srgbClr val="b4ef7f"/>
                  </a:gs>
                  <a:gs pos="100000">
                    <a:srgbClr val="8eac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1efb3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d1efb3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b4ef7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b4ef7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b4ef7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0CDB4-EA11-43C7-B90E-B1748A94F7A4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5f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5863c"/>
                  </a:gs>
                  <a:gs pos="100000">
                    <a:srgbClr val="375f2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75f2f"/>
                  </a:gs>
                  <a:gs pos="100000">
                    <a:srgbClr val="55863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eac66"/>
                </a:gs>
                <a:gs pos="50000">
                  <a:srgbClr val="b4ef7f"/>
                </a:gs>
                <a:gs pos="100000">
                  <a:srgbClr val="8eac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55863c"/>
                </a:gs>
                <a:gs pos="100000">
                  <a:srgbClr val="8eac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eac66"/>
                </a:gs>
                <a:gs pos="100000">
                  <a:srgbClr val="55863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75f2f"/>
                  </a:gs>
                  <a:gs pos="100000">
                    <a:srgbClr val="55863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5863c"/>
                  </a:gs>
                  <a:gs pos="100000">
                    <a:srgbClr val="375f2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75f2f"/>
                  </a:gs>
                  <a:gs pos="100000">
                    <a:srgbClr val="55863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eac66"/>
                  </a:gs>
                  <a:gs pos="100000">
                    <a:srgbClr val="55863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5863c"/>
                  </a:gs>
                  <a:gs pos="100000">
                    <a:srgbClr val="8eac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eac66"/>
                  </a:gs>
                  <a:gs pos="50000">
                    <a:srgbClr val="b4ef7f"/>
                  </a:gs>
                  <a:gs pos="100000">
                    <a:srgbClr val="8eac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1efb3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d1efb3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5A4CF-0834-4877-9C64-89BE3C2F6EEB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b4ef7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b4ef7f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5f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85024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d1efb3"/>
                </a:solidFill>
                <a:latin typeface="Tahoma"/>
              </a:rPr>
              <a:t>Предложения с обособленными и уточняющими  </a:t>
            </a:r>
            <a:br>
              <a:rPr sz="7200"/>
            </a:br>
            <a:r>
              <a:rPr b="1" lang="ru-RU" sz="7200" spc="-1" strike="noStrike">
                <a:solidFill>
                  <a:srgbClr val="d1efb3"/>
                </a:solidFill>
                <a:latin typeface="Tahoma"/>
              </a:rPr>
              <a:t>        членами. </a:t>
            </a:r>
            <a:endParaRPr b="1" lang="en-US" sz="7200" spc="-1" strike="noStrike">
              <a:solidFill>
                <a:srgbClr val="d1efb3"/>
              </a:solidFill>
              <a:latin typeface="Tahoma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10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5f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79280" y="692280"/>
            <a:ext cx="4587840" cy="589104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5148360" y="692280"/>
            <a:ext cx="3819600" cy="5835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5f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1efb3"/>
                </a:solidFill>
                <a:latin typeface="Tahoma"/>
              </a:rPr>
              <a:t>Проверь тест</a:t>
            </a:r>
            <a:endParaRPr b="1" lang="en-US" sz="4400" spc="-1" strike="noStrike">
              <a:solidFill>
                <a:srgbClr val="d1efb3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500"/>
              </a:spcBef>
              <a:buClr>
                <a:srgbClr val="b4ef7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lang="ru-RU" sz="6000" spc="-1" strike="noStrike">
                <a:solidFill>
                  <a:srgbClr val="ffffff"/>
                </a:solidFill>
                <a:latin typeface="Tahoma"/>
              </a:rPr>
              <a:t>.  -1</a:t>
            </a:r>
            <a:br>
              <a:rPr sz="6000"/>
            </a:b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II</a:t>
            </a:r>
            <a:r>
              <a:rPr b="0" lang="ru-RU" sz="6000" spc="-1" strike="noStrike">
                <a:solidFill>
                  <a:srgbClr val="ffffff"/>
                </a:solidFill>
                <a:latin typeface="Tahoma"/>
              </a:rPr>
              <a:t>. -4</a:t>
            </a:r>
            <a:br>
              <a:rPr sz="6000"/>
            </a:b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III</a:t>
            </a:r>
            <a:r>
              <a:rPr b="0" lang="ru-RU" sz="6000" spc="-1" strike="noStrike">
                <a:solidFill>
                  <a:srgbClr val="ffffff"/>
                </a:solidFill>
                <a:latin typeface="Tahoma"/>
              </a:rPr>
              <a:t>.-4</a:t>
            </a:r>
            <a:br>
              <a:rPr sz="6000"/>
            </a:b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IV</a:t>
            </a:r>
            <a:r>
              <a:rPr b="0" lang="ru-RU" sz="6000" spc="-1" strike="noStrike">
                <a:solidFill>
                  <a:srgbClr val="ffffff"/>
                </a:solidFill>
                <a:latin typeface="Tahoma"/>
              </a:rPr>
              <a:t>. -3</a:t>
            </a:r>
            <a:br>
              <a:rPr sz="6000"/>
            </a:b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V</a:t>
            </a:r>
            <a:r>
              <a:rPr b="0" lang="ru-RU" sz="6000" spc="-1" strike="noStrike">
                <a:solidFill>
                  <a:srgbClr val="ffffff"/>
                </a:solidFill>
                <a:latin typeface="Tahoma"/>
              </a:rPr>
              <a:t>.  -1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5f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99640" y="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1efb3"/>
                </a:solidFill>
                <a:latin typeface="Tahoma"/>
              </a:rPr>
              <a:t>Домашнее задание</a:t>
            </a:r>
            <a:endParaRPr b="1" lang="en-US" sz="4400" spc="-1" strike="noStrike">
              <a:solidFill>
                <a:srgbClr val="d1efb3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076720" y="1413000"/>
            <a:ext cx="3703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80000"/>
              </a:lnSpc>
              <a:spcBef>
                <a:spcPts val="451"/>
              </a:spcBef>
              <a:buClr>
                <a:srgbClr val="b4ef7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Алекса́ндр Васи́льевич Суво́ров (13 (24) ноября 1729, Москва — 6 (18) мая 1800, Санкт-Петербург) — великий русский полководец, один из основоположников русского военного искусства, Светлейший князь Италийский (1799), граф Рымникский (1789) и Священной Римской империи, генералиссимус российских сухопутных и морских сил, генерал-фельдмаршал австрийских и сардинских войск, Сардинского королевства гранд и принц королевской крови, кавалер всех российских и многих иностранных военных орденов. За всю жизнь не потерпел ни одного поражения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085760" y="2035080"/>
            <a:ext cx="3353040" cy="4054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1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5f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d1efb3"/>
                </a:solidFill>
                <a:latin typeface="Tahoma"/>
              </a:rPr>
              <a:t>Картина Сурикова В. И. «Переход Суворова через Альпы в 1799 году»</a:t>
            </a:r>
            <a:endParaRPr b="1" lang="en-US" sz="3300" spc="-1" strike="noStrike">
              <a:solidFill>
                <a:srgbClr val="d1efb3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403280" y="1844640"/>
            <a:ext cx="5400720" cy="48261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898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5f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1efb3"/>
                </a:solidFill>
                <a:latin typeface="Tahoma"/>
              </a:rPr>
              <a:t>эпиграф</a:t>
            </a:r>
            <a:endParaRPr b="1" lang="en-US" sz="4400" spc="-1" strike="noStrike">
              <a:solidFill>
                <a:srgbClr val="d1efb3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4ef7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Знания только тогда знания, когда приобретены усилиями своей мысл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(Л.Н.Толстой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5f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1efb3"/>
                </a:solidFill>
                <a:latin typeface="Tahoma"/>
              </a:rPr>
              <a:t>девиз урока:</a:t>
            </a:r>
            <a:endParaRPr b="1" lang="en-US" sz="4400" spc="-1" strike="noStrike">
              <a:solidFill>
                <a:srgbClr val="d1efb3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b4ef7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не необходимо разобраться самому, а чтобы разобраться самому, надо думать сообща.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(Б.Васильев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5f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1efb3"/>
                </a:solidFill>
                <a:latin typeface="Tahoma"/>
              </a:rPr>
              <a:t>Урок- практикум</a:t>
            </a:r>
            <a:endParaRPr b="1" lang="en-US" sz="4400" spc="-1" strike="noStrike">
              <a:solidFill>
                <a:srgbClr val="d1efb3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1efb3"/>
                </a:solidFill>
                <a:latin typeface="Tahoma"/>
              </a:rPr>
              <a:t>Мы должны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знать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b4ef7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- правила обособления определений, приложений, дополнений, обстоятельств и уточняющих членов предложения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b4ef7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- стилистическую роль обособленных членов предложения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уметь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b4ef7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- находить в тексте, осложненном другими конструкциями, предложения с обособленными членами, выделять их интонацией и знаками препинания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b4ef7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- использовать указанные конструкции в связной реч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5f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" name=""/>
          <p:cNvGrpSpPr/>
          <p:nvPr/>
        </p:nvGrpSpPr>
        <p:grpSpPr>
          <a:xfrm>
            <a:off x="1132560" y="253440"/>
            <a:ext cx="6733440" cy="6347160"/>
            <a:chOff x="1132560" y="253440"/>
            <a:chExt cx="6733440" cy="6347160"/>
          </a:xfrm>
        </p:grpSpPr>
        <p:sp>
          <p:nvSpPr>
            <p:cNvPr id="117" name="_s162820"/>
            <p:cNvSpPr/>
            <p:nvPr/>
          </p:nvSpPr>
          <p:spPr>
            <a:xfrm flipH="1" flipV="1">
              <a:off x="2883240" y="2634480"/>
              <a:ext cx="807840" cy="396360"/>
            </a:xfrm>
            <a:prstGeom prst="line">
              <a:avLst/>
            </a:prstGeom>
            <a:ln w="28440">
              <a:solidFill>
                <a:srgbClr val="55863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_s162821"/>
            <p:cNvSpPr/>
            <p:nvPr/>
          </p:nvSpPr>
          <p:spPr>
            <a:xfrm>
              <a:off x="1132560" y="1441440"/>
              <a:ext cx="1872000" cy="15872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141999" dir="1590005" blurRad="0" rotWithShape="0">
                <a:srgbClr val="8eac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omic Sans MS"/>
                </a:rPr>
                <a:t>III</a:t>
              </a:r>
              <a:r>
                <a:rPr b="0" lang="ru-RU" sz="1400" spc="-1" strike="noStrike">
                  <a:solidFill>
                    <a:srgbClr val="ffffff"/>
                  </a:solidFill>
                  <a:latin typeface="Comic Sans MS"/>
                </a:rPr>
                <a:t>. </a:t>
              </a:r>
              <a:r>
                <a:rPr b="1" lang="ru-RU" sz="1200" spc="-1" strike="noStrike">
                  <a:solidFill>
                    <a:srgbClr val="ffffff"/>
                  </a:solidFill>
                  <a:latin typeface="Comic Sans MS"/>
                </a:rPr>
                <a:t>Обособление 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Comic Sans MS"/>
                </a:rPr>
                <a:t>обстоятельств, 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Comic Sans MS"/>
                </a:rPr>
                <a:t>                     </a:t>
              </a:r>
              <a:r>
                <a:rPr b="1" lang="ru-RU" sz="1200" spc="-1" strike="noStrike">
                  <a:solidFill>
                    <a:srgbClr val="ffffff"/>
                  </a:solidFill>
                  <a:latin typeface="Comic Sans MS"/>
                </a:rPr>
                <a:t>выраженных</a:t>
              </a:r>
              <a:r>
                <a:rPr b="0" lang="ru-RU" sz="1200" spc="-1" strike="noStrike">
                  <a:solidFill>
                    <a:srgbClr val="ffffff"/>
                  </a:solidFill>
                  <a:latin typeface="Comic Sans MS"/>
                </a:rPr>
                <a:t>                              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Comic Sans MS"/>
                </a:rPr>
                <a:t>  </a:t>
              </a:r>
              <a:r>
                <a:rPr b="0" lang="ru-RU" sz="1200" spc="-1" strike="noStrike">
                  <a:solidFill>
                    <a:srgbClr val="ffffff"/>
                  </a:solidFill>
                  <a:latin typeface="Comic Sans MS"/>
                </a:rPr>
                <a:t>деепричастным 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Comic Sans MS"/>
                </a:rPr>
                <a:t>оборотом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_s162822"/>
            <p:cNvSpPr/>
            <p:nvPr/>
          </p:nvSpPr>
          <p:spPr>
            <a:xfrm flipH="1">
              <a:off x="2883240" y="3822840"/>
              <a:ext cx="807840" cy="396360"/>
            </a:xfrm>
            <a:prstGeom prst="line">
              <a:avLst/>
            </a:prstGeom>
            <a:ln w="28440">
              <a:solidFill>
                <a:srgbClr val="55863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_s162823"/>
            <p:cNvSpPr/>
            <p:nvPr/>
          </p:nvSpPr>
          <p:spPr>
            <a:xfrm>
              <a:off x="1132560" y="3822840"/>
              <a:ext cx="1872000" cy="15872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141999" dir="1590005" blurRad="0" rotWithShape="0">
                <a:srgbClr val="8eac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comic"/>
                </a:rPr>
                <a:t>IV</a:t>
              </a:r>
              <a:r>
                <a:rPr b="1" lang="ru-RU" sz="1400" spc="-1" strike="noStrike">
                  <a:solidFill>
                    <a:srgbClr val="ffffff"/>
                  </a:solidFill>
                  <a:latin typeface="comic"/>
                </a:rPr>
                <a:t>.Обособление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comic"/>
                </a:rPr>
                <a:t>обстоятельств,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comic"/>
                </a:rPr>
                <a:t>выраженных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comic"/>
                </a:rPr>
                <a:t>существительными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comic"/>
                </a:rPr>
                <a:t>с предлогами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_s162824"/>
            <p:cNvSpPr/>
            <p:nvPr/>
          </p:nvSpPr>
          <p:spPr>
            <a:xfrm>
              <a:off x="4500000" y="4217040"/>
              <a:ext cx="0" cy="793440"/>
            </a:xfrm>
            <a:prstGeom prst="line">
              <a:avLst/>
            </a:prstGeom>
            <a:ln w="28440">
              <a:solidFill>
                <a:srgbClr val="55863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_s162825"/>
            <p:cNvSpPr/>
            <p:nvPr/>
          </p:nvSpPr>
          <p:spPr>
            <a:xfrm>
              <a:off x="3563640" y="5013360"/>
              <a:ext cx="1871280" cy="15872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141999" dir="1590005" blurRad="0" rotWithShape="0">
                <a:srgbClr val="8eac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comic"/>
                </a:rPr>
                <a:t>V</a:t>
              </a:r>
              <a:r>
                <a:rPr b="1" lang="ru-RU" sz="1400" spc="-1" strike="noStrike">
                  <a:solidFill>
                    <a:srgbClr val="ffffff"/>
                  </a:solidFill>
                  <a:latin typeface="comic"/>
                </a:rPr>
                <a:t>.Обособление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comic"/>
                </a:rPr>
                <a:t>уточняющих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comic"/>
                </a:rPr>
                <a:t>членов ,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comic"/>
                </a:rPr>
                <a:t>оборотов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comic"/>
                </a:rPr>
                <a:t>со значением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comic"/>
                </a:rPr>
                <a:t>пояснения или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comic"/>
                </a:rPr>
                <a:t>присоединения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_s162826"/>
            <p:cNvSpPr/>
            <p:nvPr/>
          </p:nvSpPr>
          <p:spPr>
            <a:xfrm>
              <a:off x="5307840" y="3822840"/>
              <a:ext cx="810720" cy="396360"/>
            </a:xfrm>
            <a:prstGeom prst="line">
              <a:avLst/>
            </a:prstGeom>
            <a:ln w="28440">
              <a:solidFill>
                <a:srgbClr val="55863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_s162827"/>
            <p:cNvSpPr/>
            <p:nvPr/>
          </p:nvSpPr>
          <p:spPr>
            <a:xfrm>
              <a:off x="5994000" y="3822840"/>
              <a:ext cx="1872000" cy="15872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141999" dir="1590005" blurRad="0" rotWithShape="0">
                <a:srgbClr val="8eac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comic"/>
                </a:rPr>
                <a:t>VI</a:t>
              </a:r>
              <a:r>
                <a:rPr b="1" lang="ru-RU" sz="1400" spc="-1" strike="noStrike">
                  <a:solidFill>
                    <a:srgbClr val="ffffff"/>
                  </a:solidFill>
                  <a:latin typeface="comic"/>
                </a:rPr>
                <a:t>.Обособление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comic"/>
                </a:rPr>
                <a:t>дополнений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_s162828"/>
            <p:cNvSpPr/>
            <p:nvPr/>
          </p:nvSpPr>
          <p:spPr>
            <a:xfrm flipV="1">
              <a:off x="5307840" y="2634480"/>
              <a:ext cx="810720" cy="396360"/>
            </a:xfrm>
            <a:prstGeom prst="line">
              <a:avLst/>
            </a:prstGeom>
            <a:ln w="28440">
              <a:solidFill>
                <a:srgbClr val="55863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_s162829"/>
            <p:cNvSpPr/>
            <p:nvPr/>
          </p:nvSpPr>
          <p:spPr>
            <a:xfrm>
              <a:off x="5994000" y="1444680"/>
              <a:ext cx="1872000" cy="158688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141999" dir="1590005" blurRad="0" rotWithShape="0">
                <a:srgbClr val="8eac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comic"/>
                </a:rPr>
                <a:t>II</a:t>
              </a:r>
              <a:r>
                <a:rPr b="1" lang="ru-RU" sz="1400" spc="-1" strike="noStrike">
                  <a:solidFill>
                    <a:srgbClr val="ffffff"/>
                  </a:solidFill>
                  <a:latin typeface="comic"/>
                </a:rPr>
                <a:t>.Обособление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comic"/>
                </a:rPr>
                <a:t>приложений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_s162830"/>
            <p:cNvSpPr/>
            <p:nvPr/>
          </p:nvSpPr>
          <p:spPr>
            <a:xfrm flipV="1">
              <a:off x="4500000" y="1841040"/>
              <a:ext cx="0" cy="793440"/>
            </a:xfrm>
            <a:prstGeom prst="line">
              <a:avLst/>
            </a:prstGeom>
            <a:ln w="28440">
              <a:solidFill>
                <a:srgbClr val="55863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_s162831"/>
            <p:cNvSpPr/>
            <p:nvPr/>
          </p:nvSpPr>
          <p:spPr>
            <a:xfrm>
              <a:off x="3563640" y="253440"/>
              <a:ext cx="1871280" cy="158724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141999" dir="1590005" blurRad="0" rotWithShape="0">
                <a:srgbClr val="8eac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comic"/>
                </a:rPr>
                <a:t>I</a:t>
              </a:r>
              <a:r>
                <a:rPr b="1" lang="ru-RU" sz="1400" spc="-1" strike="noStrike">
                  <a:solidFill>
                    <a:srgbClr val="ffffff"/>
                  </a:solidFill>
                  <a:latin typeface="comic"/>
                </a:rPr>
                <a:t>.Обособление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comic"/>
                </a:rPr>
                <a:t>определений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_s162832"/>
            <p:cNvSpPr/>
            <p:nvPr/>
          </p:nvSpPr>
          <p:spPr>
            <a:xfrm>
              <a:off x="3563640" y="2634840"/>
              <a:ext cx="1871280" cy="158724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141999" dir="1590005" blurRad="0" rotWithShape="0">
                <a:srgbClr val="f8f6a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comic"/>
                </a:rPr>
                <a:t>Предложения с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comic"/>
                </a:rPr>
                <a:t>обособленными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comic"/>
                </a:rPr>
                <a:t>членами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5f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402920" y="33336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1efb3"/>
                </a:solidFill>
                <a:latin typeface="Tahoma"/>
              </a:rPr>
              <a:t>Словарный диктант</a:t>
            </a:r>
            <a:endParaRPr b="1" lang="en-US" sz="4400" spc="-1" strike="noStrike">
              <a:solidFill>
                <a:srgbClr val="d1efb3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403280" y="1988640"/>
            <a:ext cx="74167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анорам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онцерт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онсерватор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Территор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печатлени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Лауреа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Транслироват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имфон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ебют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нформац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1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5f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1efb3"/>
                </a:solidFill>
                <a:latin typeface="Tahoma"/>
              </a:rPr>
              <a:t>Новые словарные слова</a:t>
            </a:r>
            <a:endParaRPr b="1" lang="en-US" sz="4400" spc="-1" strike="noStrike">
              <a:solidFill>
                <a:srgbClr val="d1efb3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00"/>
              </a:spcBef>
              <a:buClr>
                <a:srgbClr val="b4ef7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ffff"/>
                </a:solidFill>
                <a:latin typeface="Tahoma"/>
              </a:rPr>
              <a:t>Реликвия</a:t>
            </a:r>
            <a:endParaRPr b="0" lang="en-US" sz="8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2200"/>
              </a:spcBef>
              <a:buClr>
                <a:srgbClr val="b4ef7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ffff"/>
                </a:solidFill>
                <a:latin typeface="Tahoma"/>
              </a:rPr>
              <a:t>прототип</a:t>
            </a:r>
            <a:endParaRPr b="0" lang="en-US" sz="8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d"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5f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324000" y="907920"/>
            <a:ext cx="4103640" cy="570096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4967280" y="907920"/>
            <a:ext cx="4176720" cy="5681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5f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4859280" y="549360"/>
            <a:ext cx="4059360" cy="597528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324000" y="476280"/>
            <a:ext cx="4032000" cy="6048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Дом</cp:lastModifiedBy>
  <dcterms:modified xsi:type="dcterms:W3CDTF">2005-03-16T19:35:53Z</dcterms:modified>
  <cp:revision>14</cp:revision>
  <dc:subject/>
  <dc:title>PowerPoint Presentation</dc:title>
</cp:coreProperties>
</file>