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14A-B2D0-4671-ACB2-D4073E97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E1B-E3A2-4210-821A-1A3D99C2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258-1581-4145-B692-EAAA36EF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D27-6258-432F-95A1-441BB68D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3125-009D-4709-8217-308CC0A4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1C82-56B3-4746-BAD4-73B9419B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D327-6BC1-4C6E-890E-D2E23093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2772-572E-411D-9443-372AD497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AEE3-EEA2-4A03-9E7A-0DD80112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F1AA-B890-4F44-8987-6B44527C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254F-AC96-4AED-8A1F-307940DF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C8B-D4DD-4186-BA64-DCBB5311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83C3-2A6B-4B1D-B2EA-5804C426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4F65-D603-4038-AEF4-17F1282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BD43-B1E5-4D52-ADAF-01E699AB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8129-722E-4048-8A68-9E90358A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B316-933E-425B-B9E9-9169AB45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7F3-B637-41D2-9EA6-E5D33962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EC7-124F-4B15-8C85-180725E7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DC8-0A92-466D-A98D-CEE61781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1FC-D059-4504-9E90-174BEC73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4A8-0278-43DD-9F3C-1815A3AF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B2A-8F73-4D08-8EC9-13AE5C3F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B76-E09F-4A3F-A90A-588B4CA4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375f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5f2f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224A-62DF-4DE7-827D-A77933E210B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45E7-2213-4301-B645-9E1A4B8288A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502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1efb3"/>
                </a:solidFill>
                <a:latin typeface="Tahoma"/>
              </a:rPr>
              <a:t>Предложения с обособленными и уточняющими  </a:t>
            </a:r>
            <a:br>
              <a:rPr sz="7200"/>
            </a:br>
            <a:r>
              <a:rPr b="1" lang="ru-RU" sz="7200" spc="-1" strike="noStrike">
                <a:solidFill>
                  <a:srgbClr val="d1efb3"/>
                </a:solidFill>
                <a:latin typeface="Tahoma"/>
              </a:rPr>
              <a:t>        членами. </a:t>
            </a:r>
            <a:endParaRPr b="1" lang="en-US" sz="7200" spc="-1" strike="noStrike">
              <a:solidFill>
                <a:srgbClr val="d1efb3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587840" cy="5891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819600" cy="58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Проверь тест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5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 -1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-4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-4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-3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 -1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Домашнее задание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6720" y="141300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́ндр Васи́льевич Суво́ров (13 (24) ноября 1729, Москва — 6 (18) мая 1800, Санкт-Петербург) — великий русский полководец, один из основоположников русского военного искусства, Светлейший князь Италийский (1799), граф Рымникский (1789) и Священной Римской империи, генералиссимус российских сухопутных и морских сил, генерал-фельдмаршал австрийских и сардинских войск, Сардинского королевства гранд и принц королевской крови, кавалер всех российских и многих иностранных военных орденов. За всю жизнь не потерпел ни одного пора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85760" y="2035080"/>
            <a:ext cx="3353040" cy="405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d1efb3"/>
                </a:solidFill>
                <a:latin typeface="Tahoma"/>
              </a:rPr>
              <a:t>Картина Сурикова В. И. «Переход Суворова через Альпы в 1799 году»</a:t>
            </a:r>
            <a:endParaRPr b="1" lang="en-US" sz="3300" spc="-1" strike="noStrike">
              <a:solidFill>
                <a:srgbClr val="d1efb3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400720" cy="482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эпиграф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ния только тогда знания, когда приобретены усилиями своей мыс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Л.Н.Толсто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девиз урока: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е необходимо разобраться самому, а чтобы разобраться самому, надо думать сообща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.Василь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Урок- практикум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efb3"/>
                </a:solidFill>
                <a:latin typeface="Tahoma"/>
              </a:rPr>
              <a:t>Мы долж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авила обособления определений, приложений, дополнений, обстоятельств и уточняющих членов предложен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тилистическую роль обособленных членов предлож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аходить в тексте, осложненном другими конструкциями, предложения с обособленными членами, выделять их интонацией и знаками препинан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спользовать указанные конструкции в связной р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132560" y="253440"/>
            <a:ext cx="6733440" cy="6347160"/>
            <a:chOff x="1132560" y="253440"/>
            <a:chExt cx="6733440" cy="6347160"/>
          </a:xfrm>
        </p:grpSpPr>
        <p:sp>
          <p:nvSpPr>
            <p:cNvPr id="117" name="_s162820"/>
            <p:cNvSpPr/>
            <p:nvPr/>
          </p:nvSpPr>
          <p:spPr>
            <a:xfrm flipH="1" flipV="1">
              <a:off x="2883240" y="2634480"/>
              <a:ext cx="80784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_s162821"/>
            <p:cNvSpPr/>
            <p:nvPr/>
          </p:nvSpPr>
          <p:spPr>
            <a:xfrm>
              <a:off x="1132560" y="1441440"/>
              <a:ext cx="1872000" cy="1587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r>
                <a:rPr b="0" lang="ru-RU" sz="1400" spc="-1" strike="noStrike">
                  <a:solidFill>
                    <a:srgbClr val="ffffff"/>
                  </a:solidFill>
                  <a:latin typeface="Comic Sans MS"/>
                </a:rPr>
                <a:t>. </a:t>
              </a: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Обособление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обстоятельств,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выраженных</a:t>
              </a: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деепричастным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оборото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_s162822"/>
            <p:cNvSpPr/>
            <p:nvPr/>
          </p:nvSpPr>
          <p:spPr>
            <a:xfrm flipH="1">
              <a:off x="2883240" y="3822840"/>
              <a:ext cx="80784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_s162823"/>
            <p:cNvSpPr/>
            <p:nvPr/>
          </p:nvSpPr>
          <p:spPr>
            <a:xfrm>
              <a:off x="1132560" y="3822840"/>
              <a:ext cx="1872000" cy="1587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IV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бстоятельств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выраженных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существительным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с предлогами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_s162824"/>
            <p:cNvSpPr/>
            <p:nvPr/>
          </p:nvSpPr>
          <p:spPr>
            <a:xfrm>
              <a:off x="4500000" y="4217040"/>
              <a:ext cx="0" cy="79344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_s162825"/>
            <p:cNvSpPr/>
            <p:nvPr/>
          </p:nvSpPr>
          <p:spPr>
            <a:xfrm>
              <a:off x="3563640" y="5013360"/>
              <a:ext cx="1871280" cy="158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V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уточняющих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членов 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боротов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со значением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ояснения ил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рисоединения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_s162826"/>
            <p:cNvSpPr/>
            <p:nvPr/>
          </p:nvSpPr>
          <p:spPr>
            <a:xfrm>
              <a:off x="5307840" y="3822840"/>
              <a:ext cx="81072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162827"/>
            <p:cNvSpPr/>
            <p:nvPr/>
          </p:nvSpPr>
          <p:spPr>
            <a:xfrm>
              <a:off x="5994000" y="3822840"/>
              <a:ext cx="1872000" cy="1587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VI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дополнени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_s162828"/>
            <p:cNvSpPr/>
            <p:nvPr/>
          </p:nvSpPr>
          <p:spPr>
            <a:xfrm flipV="1">
              <a:off x="5307840" y="2634480"/>
              <a:ext cx="81072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162829"/>
            <p:cNvSpPr/>
            <p:nvPr/>
          </p:nvSpPr>
          <p:spPr>
            <a:xfrm>
              <a:off x="5994000" y="1444680"/>
              <a:ext cx="1872000" cy="158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II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риложени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162830"/>
            <p:cNvSpPr/>
            <p:nvPr/>
          </p:nvSpPr>
          <p:spPr>
            <a:xfrm flipV="1">
              <a:off x="4500000" y="1841040"/>
              <a:ext cx="0" cy="79344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_s162831"/>
            <p:cNvSpPr/>
            <p:nvPr/>
          </p:nvSpPr>
          <p:spPr>
            <a:xfrm>
              <a:off x="3563640" y="253440"/>
              <a:ext cx="1871280" cy="1587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I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пределени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162832"/>
            <p:cNvSpPr/>
            <p:nvPr/>
          </p:nvSpPr>
          <p:spPr>
            <a:xfrm>
              <a:off x="3563640" y="2634840"/>
              <a:ext cx="1871280" cy="1587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8f6a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редложения с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бособленным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членами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Словарный диктант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7416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нор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це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ервато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ррито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печат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уре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нс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мфо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бют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Новые словарные слова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Реликвия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прототип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103640" cy="5700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67280" y="907920"/>
            <a:ext cx="417672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4059360" cy="597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032000" cy="604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5-03-16T19:35:53Z</dcterms:modified>
  <cp:revision>14</cp:revision>
  <dc:subject/>
  <dc:title>PowerPoint Presentation</dc:title>
</cp:coreProperties>
</file>