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EF0-B4C9-4241-95B6-8799942A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D3A-EBBC-40D5-A4F6-B8039721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E3E-6225-4CED-AE82-6FE89E19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D40-5EE7-48B8-B999-B95AA8CE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D5B1-36A5-40DD-A72F-F131A408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B7D0-E647-471B-876B-1BE763D6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83FF-3117-4885-B3AD-AEBE3EA1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61AD-8AE1-4516-9BD2-5B622708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70B6-D884-45DF-A91B-C77B45BF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7188-4E8E-4FFB-B3AD-37FB40DF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CCC-10C4-4560-94D3-47F6771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25A-605F-455B-A843-465C2F4D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B066-E919-49E3-9D5F-B4FC6C0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BA77-4A3F-45E9-A059-CD9D12A5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CA2B-746B-4AB0-93D9-C604FBF2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9EA3-E428-4D54-A08B-80392DCC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0BAD-9D61-4A24-BC57-B48D57B7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3433-5E50-4035-BA2E-E832703C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A0BA-56BB-4169-AF6C-FC884216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9D4D-8521-4EAF-93FD-2AD836CC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D511-0B08-4066-8554-7C4AE716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3DA9-B663-432D-9B85-BE1C40A8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208-56C0-4535-B6A6-5A4A9B5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5AC7-4BE0-472B-8911-DC8C05B4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D875-3464-4509-9A0D-ADEE68B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F9D2-688D-47C9-BAF7-DB65185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1151-4C21-45E2-9E0B-17FFA25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6AD4-261D-46D7-A7B0-50B6AF36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DEBC-FC0A-4CD9-AD23-4C3ADBC0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DF56-4BE1-4EAE-95AD-CB4D6BB7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E0C-000D-466D-B3CD-8AD746FE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A10-63F5-4F1D-8877-ED16C656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701-BFF2-4296-8373-3D7970E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A0B-B428-45EC-B248-1BC05AEA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A9A-CF1A-458F-B8E3-20772D00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00E-5B5D-4A96-9CFA-2E97906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D423-2CC5-4247-A409-25C4C8D05C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F1FE-B240-48FD-9B8C-03081F5BF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28CA-374B-4F14-A114-69E81AC7E5B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77E7-54E5-4945-B836-BBCAB202B7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4175-F0FB-47B5-85E7-AA966F8C4B3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E195-26F9-4468-95EB-5B026E2BEC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6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4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258920" y="2276640"/>
            <a:ext cx="7128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«Новая система оплаты труда в муниципальном общеобразовательном учреждении «Средняя общеобразовательная школа №52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emblema"/>
          <p:cNvPicPr/>
          <p:nvPr/>
        </p:nvPicPr>
        <p:blipFill>
          <a:blip r:embed="rId2"/>
          <a:stretch/>
        </p:blipFill>
        <p:spPr>
          <a:xfrm>
            <a:off x="1116000" y="26028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kpmo"/>
          <p:cNvPicPr/>
          <p:nvPr/>
        </p:nvPicPr>
        <p:blipFill>
          <a:blip r:embed="rId3"/>
          <a:stretch/>
        </p:blipFill>
        <p:spPr>
          <a:xfrm>
            <a:off x="7236000" y="333360"/>
            <a:ext cx="1476360" cy="120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1116000" y="609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г. Сар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028560" y="60930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4 апреля 2008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24360" y="549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семин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B788-B198-4371-B890-E36A07A6C2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Заработная плата педагогического работника 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П (100%)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Таз/п (42,97%) + ФОТнз/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7,58%) + ФОТ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(21,67%)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Т с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(27,78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46F4-0A74-42CE-929A-4D2410F5D8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Расчет стоимости одного ученико-часа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аз * 34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=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1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*  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 +… + a11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* в11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) * 52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п- стоимость 1 ученико-ча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2-количество недель в календарном год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4- количество недель в учебном год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Таз- часть ФОТ, отведенная на оплату часов аудиторной занят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дагогического персонала, непосредственно осуществляющего учебный процес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1, …а 11- количество обучающихся в каждой паралле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, ….в 11- годовое количество часов по учебному плану в кажд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лл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FDD3-4EEE-4FFF-80AB-2C280B4B33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овышающие коэффициенты за сложность предмета (К)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русский язык, литература, иностранный язык,                            математика, 1 класс начальной школы – до 1,1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история, обществознание, география, биолог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орматика, физика, химия, 2 – 4 классы нач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олы – до 1,1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право, экономика, технология – до 1,0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) астрономия, физическое воспитание, ИЗО, музы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рчение, ОБЖ – до 1,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8B4B-86C1-4CF8-8466-4A33BDC2F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ставляющие доплаты за неаудиторную занятость (Днз)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66680" y="1752480"/>
          <a:ext cx="7620120" cy="4500720"/>
        </p:xfrm>
        <a:graphic>
          <a:graphicData uri="http://schemas.openxmlformats.org/drawingml/2006/table">
            <a:tbl>
              <a:tblPr/>
              <a:tblGrid>
                <a:gridCol w="668520"/>
                <a:gridCol w="4219560"/>
                <a:gridCol w="27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ставляющая Дн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ля от оклада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существление функции классног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оводи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нсультации и дополнительные занятия с  обучающимися по  утвержденному  графику, в том числе кружковая работа, в объеме не менее 4 ч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готовка школьных команд, групп или отдельных учащихся к участию в олимпиадах, конкурсах, соревнованиях, смотрах и 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D2AB-725F-48E3-AA99-5E118D312B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Распределение общего фонда оплаты труда образовательного учреждения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87280" y="1197000"/>
          <a:ext cx="7490160" cy="5362200"/>
        </p:xfrm>
        <a:graphic>
          <a:graphicData uri="http://schemas.openxmlformats.org/drawingml/2006/table">
            <a:tbl>
              <a:tblPr/>
              <a:tblGrid>
                <a:gridCol w="1070640"/>
                <a:gridCol w="1069200"/>
                <a:gridCol w="1071000"/>
                <a:gridCol w="1067760"/>
                <a:gridCol w="1071000"/>
                <a:gridCol w="1069200"/>
                <a:gridCol w="1071360"/>
              </a:tblGrid>
              <a:tr h="9669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й фонд оплаты образовательного учреждения (ФОТо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педагогического персонала 65% (ФОТ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непедагогического персонала 35% (ФОТн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ующая часть ФОТ 20% (ФОТ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часть ФОТпп 70% (ФОТ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ециальная часть ФОТпп 30% (ФОТ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административного управленческого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учебно-вспомогательно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младшего обсуживающ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аудиторной занятности 85% (ФОТ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неаудитной занятности 15%(ФОТн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42A5-AE94-4D8B-98CB-81242E00C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263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Управляющий Совет ОУ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является коллегиальным органом самоуправления, осуществляющим в соответствии с Уставом учреждения решение отдельных вопросов, относящихся к компетенции учреждения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4005360"/>
            <a:ext cx="7786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Принципы деятельности членов У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добровольность участия в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коллегиальность принятия реш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глас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90512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7563-AD9D-417D-A0C5-FC9E7B97A1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орядок создания У С 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5640" y="1125000"/>
            <a:ext cx="74883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c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Инициатива школы по созданию У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2. Решение учредителя о создании У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3. Разработка: проекта новой редакции школьного Устава /внесения изменений в Уста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4. Избирательная кампания по выборам в УС (классные родительские собрания, конференция, общее собрание учащихся 10-11 классов (9х классов), общее собрание работников учрежден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5.Формирование У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35DB-61F7-4BDE-8942-9F12C91F5A6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труктура Со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484280"/>
            <a:ext cx="3600360" cy="2448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правляющ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333360"/>
            <a:ext cx="2232360" cy="1798560"/>
          </a:xfrm>
          <a:prstGeom prst="irregularSeal1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907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260280"/>
            <a:ext cx="2571840" cy="1995480"/>
          </a:xfrm>
          <a:prstGeom prst="irregularSeal1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едставител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реди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276640"/>
            <a:ext cx="2664000" cy="2447640"/>
          </a:xfrm>
          <a:prstGeom prst="irregularSeal1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1000000">
            <a:off x="1187280" y="4797000"/>
            <a:ext cx="3097440" cy="172728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рудовой коллект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2060640"/>
            <a:ext cx="2211480" cy="1274760"/>
          </a:xfrm>
          <a:prstGeom prst="irregularSeal1">
            <a:avLst/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005360"/>
            <a:ext cx="1873080" cy="257148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едставител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опечитель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о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213000"/>
            <a:ext cx="2808360" cy="2951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ооптированные чл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о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9491600">
            <a:off x="2700360" y="1483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7980800">
            <a:off x="2912040" y="3747240"/>
            <a:ext cx="2286000" cy="8305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11240 h 830520"/>
              <a:gd name="textAreaBottom" fmla="*/ 71928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3151800">
            <a:off x="4831560" y="746640"/>
            <a:ext cx="803160" cy="1262160"/>
          </a:xfrm>
          <a:custGeom>
            <a:avLst/>
            <a:gdLst>
              <a:gd name="textAreaLeft" fmla="*/ 107640 w 803160"/>
              <a:gd name="textAreaRight" fmla="*/ 695520 w 803160"/>
              <a:gd name="textAreaTop" fmla="*/ 220680 h 1262160"/>
              <a:gd name="textAreaBottom" fmla="*/ 915120 h 12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4228800">
            <a:off x="6059880" y="2329560"/>
            <a:ext cx="706320" cy="1508040"/>
          </a:xfrm>
          <a:custGeom>
            <a:avLst/>
            <a:gdLst>
              <a:gd name="textAreaLeft" fmla="*/ 94320 w 706320"/>
              <a:gd name="textAreaRight" fmla="*/ 612000 w 706320"/>
              <a:gd name="textAreaTop" fmla="*/ 263880 h 1508040"/>
              <a:gd name="textAreaBottom" fmla="*/ 109332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2852640"/>
            <a:ext cx="1511280" cy="66204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5099000">
            <a:off x="4529160" y="3764520"/>
            <a:ext cx="1352520" cy="473400"/>
          </a:xfrm>
          <a:custGeom>
            <a:avLst/>
            <a:gdLst>
              <a:gd name="textAreaLeft" fmla="*/ 236520 w 1352520"/>
              <a:gd name="textAreaRight" fmla="*/ 980640 w 1352520"/>
              <a:gd name="textAreaTop" fmla="*/ 63360 h 473400"/>
              <a:gd name="textAreaBottom" fmla="*/ 410040 h 473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1717400">
            <a:off x="5439600" y="3317400"/>
            <a:ext cx="1265400" cy="97632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0BAB-B4ED-4FB5-912F-BED88EC5EE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дачи Управляющего Совета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9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пределение основных направлений развития общеобразовательного учре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повышение эффективности финансово- экономической деятельности ОУ, стимулирование труда его работ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содействие созданию в ОУ оптимальных условий и форм организации образовательного проце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контроль за соблюдением надлежащих условий обучения, воспитания и труда в ОУ, сохранения и укрепления здоровья обучающихся, за целевым и рациональным расходованием финансовых сред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участие в рассмотрении конфликтных ситуаций между участниками образовательного процесса в случаях, когда это необходи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BE29-27A4-444F-8536-7AD44C4C02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00720" y="1197000"/>
            <a:ext cx="647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1268280"/>
            <a:ext cx="1008360" cy="396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642920" y="1197000"/>
            <a:ext cx="576360" cy="403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76360" y="1268280"/>
            <a:ext cx="1511280" cy="410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268360" y="1268280"/>
            <a:ext cx="935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олномочия Управляющего Сове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Form"/>
          <p:cNvSpPr/>
          <p:nvPr/>
        </p:nvSpPr>
        <p:spPr>
          <a:xfrm>
            <a:off x="250920" y="5373720"/>
            <a:ext cx="2376360" cy="8636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слуши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rm"/>
          <p:cNvSpPr/>
          <p:nvPr/>
        </p:nvSpPr>
        <p:spPr>
          <a:xfrm>
            <a:off x="3203640" y="5300640"/>
            <a:ext cx="2736720" cy="8650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сматри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rm"/>
          <p:cNvSpPr/>
          <p:nvPr/>
        </p:nvSpPr>
        <p:spPr>
          <a:xfrm>
            <a:off x="6227640" y="5300640"/>
            <a:ext cx="2386080" cy="936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егулярно информиру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rm"/>
          <p:cNvSpPr/>
          <p:nvPr/>
        </p:nvSpPr>
        <p:spPr>
          <a:xfrm>
            <a:off x="395280" y="3716280"/>
            <a:ext cx="2817720" cy="10400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гласовы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rm"/>
          <p:cNvSpPr/>
          <p:nvPr/>
        </p:nvSpPr>
        <p:spPr>
          <a:xfrm>
            <a:off x="3780000" y="3716280"/>
            <a:ext cx="1809720" cy="10382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но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rm"/>
          <p:cNvSpPr/>
          <p:nvPr/>
        </p:nvSpPr>
        <p:spPr>
          <a:xfrm>
            <a:off x="6156360" y="3716280"/>
            <a:ext cx="1944720" cy="9651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ча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rm"/>
          <p:cNvSpPr/>
          <p:nvPr/>
        </p:nvSpPr>
        <p:spPr>
          <a:xfrm>
            <a:off x="1979640" y="2133720"/>
            <a:ext cx="2170080" cy="9651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твержд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4932360" y="2060640"/>
            <a:ext cx="2592360" cy="10382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4536720" y="162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 flipH="1">
            <a:off x="3492000" y="1197000"/>
            <a:ext cx="71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197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643280" y="1268280"/>
            <a:ext cx="21600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F32-8556-49D4-AE3F-8EAFCFBAAC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476360" y="2780640"/>
            <a:ext cx="6767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941c"/>
                </a:solidFill>
                <a:latin typeface="Times New Roman"/>
              </a:rPr>
              <a:t>Кто не применяет новых средств, должен ждать новых бед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Ф. Бэко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bacon_bacon_s"/>
          <p:cNvPicPr/>
          <p:nvPr/>
        </p:nvPicPr>
        <p:blipFill>
          <a:blip r:embed="rId2"/>
          <a:srcRect l="9680" t="0" r="9738" b="0"/>
          <a:stretch/>
        </p:blipFill>
        <p:spPr>
          <a:xfrm>
            <a:off x="6657840" y="333360"/>
            <a:ext cx="179892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496B-663E-4CF1-A02D-C683D932BA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Утверждает: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457280"/>
            <a:ext cx="792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режим занятий обучаю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программу развития О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опрос о «школьной форме» для уча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-положение ОУ о порядке и условиях распределения стимулирующих выплат работникам учреж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0512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0D05-2213-401B-998A-E708AB9FE9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Распределяет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797960" cy="5256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по представлению директора ОУ стимулирующие выплаты педагога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вносит рекомендации по распределению стимулирующих выплат непедагогическому персоналу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751D-E0F8-4471-9ADB-BFE1BD1ED2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огласовывает по представлению директора учреждения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850160" cy="4753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смету расходования средств, полученных ОУ от уставной приносящей доход деятельности и из иных внебюджетных источ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компонент учебного пла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введение новых методик и технологий в образовательный процес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изменения и дополнения правил внутреннего распорядка О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16CE-ED8A-4D99-B31A-401C164614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носит директору образовательного учреждения предложения в части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705800" cy="4535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атериально- технического обеспечения и оснащения образовательного процесса, оборудования помещений школы (в пределах имеющихся средст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создания в школе необходимых условий для организации питания, медицинского обслуживания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организация промежуточной и итоговой аттестации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мероприятий по охране и укреплению здоровья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развития воспитательной работы в учрежд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D22-4ED4-46A7-AE1C-545F32DA36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1040" y="297000"/>
            <a:ext cx="7880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Участву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777440" cy="4969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 принятии решения о создании в ОУ общественных (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в том числе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етских и молодёжных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организаций (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объединений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) и запрашивает отчёт об их деятельн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 подготовке публичного доклада образовательного учреж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D6D2-0F31-4B4F-B23D-605685C8CB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Заслушива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Отчёт директора образовательного учреждения по итогам учебного и финансового г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3A10-BBA0-4A37-8AFF-AD38D882F1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6400" y="379440"/>
            <a:ext cx="7880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Рассматрива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Иные вопросы, отнесённые к компетенции Управляющего Совета Уставом образовательного учреждения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5F07-FAC4-428F-98AF-6C4704FA70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Регулярно информирует: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643880" cy="4680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Участников образовательного процесса о своей деятельности и принимаемых решения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8F82-84A2-44F3-A726-4EB99A105A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Коми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Финансово – хозяйств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Учеб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Организационно – прав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Комиссия по работе с родителями и местным сообще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DB3B-3C43-44BF-9FE7-F66F8A994C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оказатели реализации КПМ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66680" y="1752480"/>
          <a:ext cx="7620120" cy="4657680"/>
        </p:xfrm>
        <a:graphic>
          <a:graphicData uri="http://schemas.openxmlformats.org/drawingml/2006/table">
            <a:tbl>
              <a:tblPr/>
              <a:tblGrid>
                <a:gridCol w="2824200"/>
                <a:gridCol w="1198800"/>
                <a:gridCol w="1198440"/>
                <a:gridCol w="1198440"/>
                <a:gridCol w="120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 учебных предметов, по которым выпускникам ОУ предоставляется возможность пройти итоговую аттестацию в форме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ля выпускников ОУ сдающих ЕГЭ по трем и более учебным предметам,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исло обучающихся, на старшей ступени в расчете на одно общеобразовательное учреждение имеющую старшую ступ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5FA6-5E9E-4EC1-9C83-B81192F1A1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258920" y="234936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908000" y="357336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042920" y="981000"/>
            <a:ext cx="7632720" cy="10065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981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619280" y="1268280"/>
            <a:ext cx="58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ОВАНИЕ РОССИИ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Line 7"/>
          <p:cNvSpPr/>
          <p:nvPr/>
        </p:nvSpPr>
        <p:spPr>
          <a:xfrm flipH="1">
            <a:off x="6876720" y="1989000"/>
            <a:ext cx="431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7236000" y="1989000"/>
            <a:ext cx="727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332000" y="2565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Концепция модернизации российского образования на период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до 2010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266920" y="378936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Приоритетный национальный проект «Образова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2700360" y="472428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059280" y="4941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Комплексный проект модернизации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395280" y="189000"/>
            <a:ext cx="849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АЦИЯ РОССИИ В МЕЖДУНАРОДНУЮ СИСТЕМУ ОБРАЗОВАНИЯ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7308720" y="1989000"/>
            <a:ext cx="86364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E21D-7EC2-4002-8131-3EEB7945B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ерспектива развития МОУ «СОШ№52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1680" y="1676520"/>
          <a:ext cx="8124480" cy="3828600"/>
        </p:xfrm>
        <a:graphic>
          <a:graphicData uri="http://schemas.openxmlformats.org/drawingml/2006/table">
            <a:tbl>
              <a:tblPr/>
              <a:tblGrid>
                <a:gridCol w="4062960"/>
                <a:gridCol w="406152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-2008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8 -200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26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43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: 69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25 человек ??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26  челове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 51 челов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О 58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9-201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-201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50 человек (2 клас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2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ОГО: 7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нет!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5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О 7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6034-F151-43AD-B3D4-892D6583A5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707"/>
          <p:cNvPicPr/>
          <p:nvPr/>
        </p:nvPicPr>
        <p:blipFill>
          <a:blip r:embed="rId2"/>
          <a:stretch/>
        </p:blipFill>
        <p:spPr>
          <a:xfrm>
            <a:off x="466560" y="260280"/>
            <a:ext cx="8280720" cy="4626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042920" y="4941720"/>
            <a:ext cx="7815240" cy="1861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Школа должна формировать целостную систему универсальных знаний, умений, навыков, а также опыт самостоятельной деятельности и личной ответственности обучающихся, то есть ключевые компетенции, определяющие современное качество образо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Концепция модернизации российского образования на период до 2010 года»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0" descr="sun"/>
          <p:cNvPicPr/>
          <p:nvPr/>
        </p:nvPicPr>
        <p:blipFill>
          <a:blip r:embed="rId5"/>
          <a:stretch/>
        </p:blipFill>
        <p:spPr>
          <a:xfrm>
            <a:off x="4932360" y="0"/>
            <a:ext cx="1295280" cy="117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FCC4-6235-4ED8-9949-4A835DFC6C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7"/>
          <p:cNvSpPr txBox="1"/>
          <p:nvPr/>
        </p:nvSpPr>
        <p:spPr>
          <a:xfrm>
            <a:off x="2340000" y="476280"/>
            <a:ext cx="5191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атегические линии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Oval 13"/>
          <p:cNvSpPr/>
          <p:nvPr/>
        </p:nvSpPr>
        <p:spPr>
          <a:xfrm>
            <a:off x="6227640" y="1123920"/>
            <a:ext cx="2448000" cy="2376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интелл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ребен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1116000" y="112392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здоровь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ребенка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5"/>
          <p:cNvSpPr/>
          <p:nvPr/>
        </p:nvSpPr>
        <p:spPr>
          <a:xfrm rot="2583000">
            <a:off x="3878280" y="818640"/>
            <a:ext cx="552600" cy="1324080"/>
          </a:xfrm>
          <a:prstGeom prst="downArrow">
            <a:avLst>
              <a:gd name="adj1" fmla="val 50000"/>
              <a:gd name="adj2" fmla="val 5990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6"/>
          <p:cNvSpPr/>
          <p:nvPr/>
        </p:nvSpPr>
        <p:spPr>
          <a:xfrm rot="19105200">
            <a:off x="5338800" y="817200"/>
            <a:ext cx="576360" cy="1511280"/>
          </a:xfrm>
          <a:prstGeom prst="downArrow">
            <a:avLst>
              <a:gd name="adj1" fmla="val 50000"/>
              <a:gd name="adj2" fmla="val 6555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7"/>
          <p:cNvSpPr/>
          <p:nvPr/>
        </p:nvSpPr>
        <p:spPr>
          <a:xfrm rot="1002000">
            <a:off x="3912840" y="1360440"/>
            <a:ext cx="720720" cy="2808360"/>
          </a:xfrm>
          <a:prstGeom prst="downArrow">
            <a:avLst>
              <a:gd name="adj1" fmla="val 37889"/>
              <a:gd name="adj2" fmla="val 1976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692360" y="386064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родите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5580000" y="386064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модерниз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шк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9"/>
          <p:cNvSpPr/>
          <p:nvPr/>
        </p:nvSpPr>
        <p:spPr>
          <a:xfrm rot="20062800">
            <a:off x="5222880" y="1300320"/>
            <a:ext cx="720720" cy="2592360"/>
          </a:xfrm>
          <a:prstGeom prst="downArrow">
            <a:avLst>
              <a:gd name="adj1" fmla="val 37889"/>
              <a:gd name="adj2" fmla="val 18244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D94-CB03-46B9-94DD-987551690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не боишься идт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перёд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хочеш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зменений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чувствуеш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ственност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за настоящее и будущее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считаешь Школ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ВОЕЙ…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То живи по принцип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«Если не Я, то кто же?!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3232-4AE8-4CC1-88B0-69EA7C97BB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6107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Внедряемая модель НСОТ Саратовской области предполагает: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9360" y="2057040"/>
            <a:ext cx="79074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фференциацию заработной платы в зависимости от квалифик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ника ;сложности и интенсивности (специфики труда по типам и видам образовательных учреждений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стимулирующих функций оплаты труда , рост объё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ирующих надбавок  в общем фонде оплаты труда до 20 % (в настоящее время – менее 3%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ршенствование механизмов учёта в оплате труда всех вид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и работников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дрение механизма связи заработной платы с качеством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зультативности труда, основного на исчислении рейтинг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а за учебный г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ршенствование системы аттестации управленческих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ических кад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EC08-B2D6-430C-A2A7-708DB479D7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Ожидаемые результаты реализации модели НСОТ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качества труда работников региональной сист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ования, повышение их социального стату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лечение в образовательные учре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сококвалифицированных работников и молодых педагог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эффективности использования ресурсов в систе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ования, в т.ч. за счёт стимулирования оптимизации се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щеобразовательных учрежд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дрение механизмов государственно-общественного управления образовани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FF1-FEFF-4C9F-B0FC-7CA14DDB22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Фонд оплаты труда образовательного учреждения рассчитывается по следующей формуле: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, гд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- фонд оплаты труда образовательного учреждения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ональный подушевой норматив финансирования на реализацию федерального государственного стандарта обще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 – поправочный коэффициент для дан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 – доля фонда оплаты труда в нормативе на реализацию государственного стандарта, определяемая образовательным учреждением  самостоятельно в пределах коэффициентов, установленных Правительством Саратовской области и органами местного самоуправ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8DA2-BBF3-46D9-AFF7-784B089C7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5:37:27Z</dcterms:created>
  <dc:creator>BOSS</dc:creator>
  <dc:description/>
  <dc:language>en-US</dc:language>
  <cp:lastModifiedBy>wsadmin</cp:lastModifiedBy>
  <dcterms:modified xsi:type="dcterms:W3CDTF">2008-04-08T06:51:34Z</dcterms:modified>
  <cp:revision>55</cp:revision>
  <dc:subject/>
  <dc:title>Для элективных курсов не существует образовательных стандартов. </dc:title>
</cp:coreProperties>
</file>