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4CA-5322-45F3-AC4E-1DEAC001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89F-83AC-4C09-AB41-5FFF0E89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E96-140A-4B1C-8324-78C21426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5AF-47CA-4039-A400-3E55D323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D703-3257-4F9D-9BAB-4CE7705F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3D53-0805-403D-B671-EEFBE3CE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71FE-B146-487D-B004-A12E8885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4B63-CB6A-4606-9036-811AD053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1129-B8F2-424D-B600-67F74F8B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CD45-E511-47C8-87ED-68613F4B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F4B4-B44A-4DF7-B987-BC3C7720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6E3-8EE0-4688-AE63-CD06CCD4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29C2-4BAF-4A56-AC85-65AADE2F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8F16-CC90-4502-8819-EECA29A4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E7D0-0437-4376-B13D-357248F1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92E5-1972-45D9-9549-95EE9494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A7BE-A2AF-4040-83FC-596D3598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F3097-EB9F-47B3-BF6E-93709CB2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CB367-1654-441F-8098-4FA3935C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B482-FF83-4BEB-8208-3758CE2E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8AEED-3BFE-4CD7-AAC6-A336B9F5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F3D6A-EB50-4EB1-B30D-B8232859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C81-D189-4ED7-A9C9-75BE1C50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5290-1245-4A52-B35B-6187EA23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2893B-9F68-4F53-8725-BCC4614B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1DC8-4022-4443-9EC1-8B645A6E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8048-4A74-4EF2-92FD-15A54477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C296B-F1E0-46DB-BCD0-71DE9EF0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5F98-A370-44FD-B60F-DDB183D9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92B24-7A40-47BE-ACAE-A059AC93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ADB-2D5A-4049-A3BD-D597275B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3575-26E1-4D4A-A735-3F26E85F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CF6-CD20-47C4-8A5A-0C67387D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0F7-1B37-4AC8-9457-897E5F23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07B-9C72-498A-8DD4-502D322B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A9C-2695-4941-BD1E-33A3185D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4DA9-7425-4B27-B9C3-8DBF04EE8F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1DC1-B3D9-4448-AD42-B4C5FB7D8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A593-7D8A-468D-9E3C-540162E16FB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E0F7-DC5D-4504-A5EA-EC048E3542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5768-A0EB-4F96-9115-C0C5C7357FF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7B6B-5B4C-4DFF-BB3F-0F63E02BB4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file:///&#1043;&#1080;&#1087;&#1077;&#1088;&#1089;&#1089;&#1099;&#1083;&#1082;&#1080;%20&#1076;&#1083;&#1103;%20&#1087;&#1088;&#1077;&#1079;&#1077;&#1085;&#1090;&#1072;&#1094;&#1080;&#1080;%20&#1087;&#1088;&#1077;&#1076;&#1087;&#1088;&#1086;&#1092;&#1080;&#1083;&#1103;/&#1050;&#1086;&#1085;&#1094;&#1077;&#1087;&#1094;&#1080;&#1103;1_2.doc" TargetMode="External"/><Relationship Id="rId6" Type="http://schemas.openxmlformats.org/officeDocument/2006/relationships/hyperlink" Target="file:///&#1043;&#1080;&#1087;&#1077;&#1088;&#1089;&#1089;&#1099;&#1083;&#1082;&#1080;%20&#1076;&#1083;&#1103;%20&#1087;&#1088;&#1077;&#1079;&#1077;&#1085;&#1090;&#1072;&#1094;&#1080;&#1080;%20&#1087;&#1088;&#1077;&#1076;&#1087;&#1088;&#1086;&#1092;&#1080;&#1083;&#1103;/&#1050;&#1086;&#1085;&#1094;&#1077;&#1087;&#1094;&#1080;&#1103;1_2.doc" TargetMode="External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hyperlink" Target="file:///&#1043;&#1080;&#1087;&#1077;&#1088;&#1089;&#1089;&#1099;&#1083;&#1082;&#1080;%20&#1076;&#1083;&#1103;%20&#1087;&#1088;&#1077;&#1079;&#1077;&#1085;&#1090;&#1072;&#1094;&#1080;&#1080;%20&#1087;&#1088;&#1077;&#1076;&#1087;&#1088;&#1086;&#1092;&#1080;&#1083;&#1103;/&#1050;&#1086;&#1085;&#1094;&#1077;&#1087;&#1094;&#1080;&#1103;1_2.doc" TargetMode="External"/><Relationship Id="rId4" Type="http://schemas.openxmlformats.org/officeDocument/2006/relationships/hyperlink" Target="file:///&#1043;&#1080;&#1087;&#1077;&#1088;&#1089;&#1089;&#1099;&#1083;&#1082;&#1080;%20&#1076;&#1083;&#1103;%20&#1087;&#1088;&#1077;&#1079;&#1077;&#1085;&#1090;&#1072;&#1094;&#1080;&#1080;%20&#1087;&#1088;&#1077;&#1076;&#1087;&#1088;&#1086;&#1092;&#1080;&#1083;&#1103;/&#1050;&#1086;&#1085;&#1094;&#1077;&#1087;&#1094;&#1080;&#1103;1_2.doc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258920" y="2276640"/>
            <a:ext cx="7128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«Новая система оплаты труда в муниципальном общеобразовательном учреждении «Средняя общеобразовательная школа №52»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emblema"/>
          <p:cNvPicPr/>
          <p:nvPr/>
        </p:nvPicPr>
        <p:blipFill>
          <a:blip r:embed="rId2"/>
          <a:stretch/>
        </p:blipFill>
        <p:spPr>
          <a:xfrm>
            <a:off x="1116000" y="26028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kpmo"/>
          <p:cNvPicPr/>
          <p:nvPr/>
        </p:nvPicPr>
        <p:blipFill>
          <a:blip r:embed="rId3"/>
          <a:stretch/>
        </p:blipFill>
        <p:spPr>
          <a:xfrm>
            <a:off x="7236000" y="333360"/>
            <a:ext cx="1476360" cy="1200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1116000" y="609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г. Сар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028560" y="609300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4 апреля 2008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924360" y="54936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семин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145C-95D9-4EEE-B245-A2DD821A61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Заработная плата педагогического работника 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П (100%)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Таз/п (42,97%) + ФОТнз/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7,58%) + ФОТ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 (21,67%)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Т с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 (27,78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71EF-CF1E-4BA3-A091-7B348470A3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Расчет стоимости одного ученико-часа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Таз * 34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=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1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*  в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 +… + a11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* в11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) * 52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п- стоимость 1 ученико-час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2-количество недель в календарном год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4- количество недель в учебном год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Таз- часть ФОТ, отведенная на оплату часов аудиторной занят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дагогического персонала, непосредственно осуществляющего учебный процес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1, …а 11- количество обучающихся в каждой параллел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, ….в 11- годовое количество часов по учебному плану в кажд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алл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1B03-FB10-465B-9FDC-80B91703A8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овышающие коэффициенты за сложность предмета (К)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русский язык, литература, иностранный язык,                            математика, 1 класс начальной школы – до 1,1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история, обществознание, география, биолог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форматика, физика, химия, 2 – 4 классы нача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колы – до 1,1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право, экономика, технология – до 1,0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) астрономия, физическое воспитание, ИЗО, музы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рчение, ОБЖ – до 1,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2B4A-1300-449E-9F99-BF1197B4DF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оставляющие доплаты за неаудиторную занятость (Днз)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66680" y="1752480"/>
          <a:ext cx="7620120" cy="4500720"/>
        </p:xfrm>
        <a:graphic>
          <a:graphicData uri="http://schemas.openxmlformats.org/drawingml/2006/table">
            <a:tbl>
              <a:tblPr/>
              <a:tblGrid>
                <a:gridCol w="668520"/>
                <a:gridCol w="4219560"/>
                <a:gridCol w="2732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ставляющая Дн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ля от оклада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существление функции классного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уководите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нсультации и дополнительные занятия с  обучающимися по  утвержденному  графику, в том числе кружковая работа, в объеме не менее 4 ч в недел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дготовка школьных команд, групп или отдельных учащихся к участию в олимпиадах, конкурсах, соревнованиях, смотрах и 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43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0017-5D73-4717-B25F-2EA15D91B3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e7ff"/>
                </a:solidFill>
                <a:latin typeface="Arial"/>
              </a:rPr>
              <a:t>Распределение общего фонда оплаты труда образовательного учреждения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87280" y="1197000"/>
          <a:ext cx="7490160" cy="5362200"/>
        </p:xfrm>
        <a:graphic>
          <a:graphicData uri="http://schemas.openxmlformats.org/drawingml/2006/table">
            <a:tbl>
              <a:tblPr/>
              <a:tblGrid>
                <a:gridCol w="1070640"/>
                <a:gridCol w="1069200"/>
                <a:gridCol w="1071000"/>
                <a:gridCol w="1067760"/>
                <a:gridCol w="1071000"/>
                <a:gridCol w="1069200"/>
                <a:gridCol w="1071360"/>
              </a:tblGrid>
              <a:tr h="9669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й фонд оплаты образовательного учреждения (ФОТо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педагогического персонала 65% (ФОТб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непедагогического персонала 35% (ФОТн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мулирующая часть ФОТ 20% (ФОТ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8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часть ФОТпп 70% (ФОТ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ециальная часть ФОТпп 30% (ФОТ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административного управленческого персон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учебно-вспомогательного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младшего обсуживающего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аудиторной занятности 85% (ФОТ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Т неаудитной занятности 15%(ФОТн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B41C-D6EA-4274-9DD1-0AD81224FD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2632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Управляющий Совет ОУ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является коллегиальным органом самоуправления, осуществляющим в соответствии с Уставом учреждения решение отдельных вопросов, относящихся к компетенции учреждения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00000" y="4005360"/>
            <a:ext cx="7786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Принципы деятельности членов У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добровольность участия в работ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коллегиальность принятия реш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глас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086600" y="228600"/>
            <a:ext cx="190512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761A-DE7F-498F-9828-4010ECA9E8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Порядок создания У С 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15640" y="1125000"/>
            <a:ext cx="74883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c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Инициатива школы по созданию У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2. Решение учредителя о создании У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3. Разработка: проекта новой редакции школьного Устава /внесения изменений в Уста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4. Избирательная кампания по выборам в УС (классные родительские собрания, конференция, общее собрание учащихся 10-11 классов (9х классов), общее собрание работников учреждени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Arial"/>
              </a:rPr>
              <a:t>5.Формирование У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AD20-55B4-4E9A-A806-C0B03303A34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713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труктура Со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1484280"/>
            <a:ext cx="3600360" cy="2448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правляющ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Сов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333360"/>
            <a:ext cx="2232360" cy="1798560"/>
          </a:xfrm>
          <a:prstGeom prst="irregularSeal1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19280" y="9079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80000" y="260280"/>
            <a:ext cx="2571840" cy="1995480"/>
          </a:xfrm>
          <a:prstGeom prst="irregularSeal1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редставител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чредите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2276640"/>
            <a:ext cx="2664000" cy="2447640"/>
          </a:xfrm>
          <a:prstGeom prst="irregularSeal1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Родит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21000000">
            <a:off x="1187280" y="4797000"/>
            <a:ext cx="3097440" cy="1727280"/>
          </a:xfrm>
          <a:prstGeom prst="irregularSeal1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Трудовой коллект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2060640"/>
            <a:ext cx="2211480" cy="1274760"/>
          </a:xfrm>
          <a:prstGeom prst="irregularSeal1">
            <a:avLst/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чащие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4005360"/>
            <a:ext cx="1873080" cy="2571480"/>
          </a:xfrm>
          <a:prstGeom prst="irregularSeal1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редставител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опечительск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ов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3213000"/>
            <a:ext cx="2808360" cy="2951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Кооптированные чл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ов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9491600">
            <a:off x="2700360" y="1483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7980800">
            <a:off x="2912040" y="3747240"/>
            <a:ext cx="2286000" cy="8305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11240 h 830520"/>
              <a:gd name="textAreaBottom" fmla="*/ 719280 h 8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3151800">
            <a:off x="4831560" y="746640"/>
            <a:ext cx="803160" cy="1262160"/>
          </a:xfrm>
          <a:custGeom>
            <a:avLst/>
            <a:gdLst>
              <a:gd name="textAreaLeft" fmla="*/ 107640 w 803160"/>
              <a:gd name="textAreaRight" fmla="*/ 695520 w 803160"/>
              <a:gd name="textAreaTop" fmla="*/ 220680 h 1262160"/>
              <a:gd name="textAreaBottom" fmla="*/ 915120 h 12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4228800">
            <a:off x="6059880" y="2329560"/>
            <a:ext cx="706320" cy="1508040"/>
          </a:xfrm>
          <a:custGeom>
            <a:avLst/>
            <a:gdLst>
              <a:gd name="textAreaLeft" fmla="*/ 94320 w 706320"/>
              <a:gd name="textAreaRight" fmla="*/ 612000 w 706320"/>
              <a:gd name="textAreaTop" fmla="*/ 263880 h 1508040"/>
              <a:gd name="textAreaBottom" fmla="*/ 1093320 h 15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84360" y="2852640"/>
            <a:ext cx="1511280" cy="662040"/>
          </a:xfrm>
          <a:custGeom>
            <a:avLst/>
            <a:gdLst>
              <a:gd name="textAreaLeft" fmla="*/ 264240 w 1511280"/>
              <a:gd name="textAreaRight" fmla="*/ 1095840 w 1511280"/>
              <a:gd name="textAreaTop" fmla="*/ 88560 h 662040"/>
              <a:gd name="textAreaBottom" fmla="*/ 57348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5099000">
            <a:off x="4529160" y="3764520"/>
            <a:ext cx="1352520" cy="473400"/>
          </a:xfrm>
          <a:custGeom>
            <a:avLst/>
            <a:gdLst>
              <a:gd name="textAreaLeft" fmla="*/ 236520 w 1352520"/>
              <a:gd name="textAreaRight" fmla="*/ 980640 w 1352520"/>
              <a:gd name="textAreaTop" fmla="*/ 63360 h 473400"/>
              <a:gd name="textAreaBottom" fmla="*/ 410040 h 473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1717400">
            <a:off x="5439600" y="3317400"/>
            <a:ext cx="1265400" cy="97632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DB30-6BB7-42FF-9971-D274481A57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Задачи Управляющего Совета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9640" y="980640"/>
            <a:ext cx="79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пределение основных направлений развития общеобразовательного учрежд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повышение эффективности финансово- экономической деятельности ОУ, стимулирование труда его работ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содействие созданию в ОУ оптимальных условий и форм организации образовательного процес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контроль за соблюдением надлежащих условий обучения, воспитания и труда в ОУ, сохранения и укрепления здоровья обучающихся, за целевым и рациональным расходованием финансовых сред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участие в рассмотрении конфликтных ситуаций между участниками образовательного процесса в случаях, когда это необходим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0C1F-3078-47B9-B251-F6BE1F58F7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300720" y="1197000"/>
            <a:ext cx="64764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88000" y="1268280"/>
            <a:ext cx="1008360" cy="396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642920" y="1197000"/>
            <a:ext cx="576360" cy="403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76360" y="1268280"/>
            <a:ext cx="1511280" cy="410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268360" y="1268280"/>
            <a:ext cx="93528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олномочия Управляющего Совет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Form"/>
          <p:cNvSpPr/>
          <p:nvPr/>
        </p:nvSpPr>
        <p:spPr>
          <a:xfrm>
            <a:off x="250920" y="5373720"/>
            <a:ext cx="2376360" cy="8636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аслушив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rm"/>
          <p:cNvSpPr/>
          <p:nvPr/>
        </p:nvSpPr>
        <p:spPr>
          <a:xfrm>
            <a:off x="3203640" y="5300640"/>
            <a:ext cx="2736720" cy="8650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ссматрив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orm"/>
          <p:cNvSpPr/>
          <p:nvPr/>
        </p:nvSpPr>
        <p:spPr>
          <a:xfrm>
            <a:off x="6227640" y="5300640"/>
            <a:ext cx="2386080" cy="936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Регулярно информиру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rm"/>
          <p:cNvSpPr/>
          <p:nvPr/>
        </p:nvSpPr>
        <p:spPr>
          <a:xfrm>
            <a:off x="395280" y="3716280"/>
            <a:ext cx="2817720" cy="10400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огласовыв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rm"/>
          <p:cNvSpPr/>
          <p:nvPr/>
        </p:nvSpPr>
        <p:spPr>
          <a:xfrm>
            <a:off x="3780000" y="3716280"/>
            <a:ext cx="1809720" cy="10382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нос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rm"/>
          <p:cNvSpPr/>
          <p:nvPr/>
        </p:nvSpPr>
        <p:spPr>
          <a:xfrm>
            <a:off x="6156360" y="3716280"/>
            <a:ext cx="1944720" cy="9651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частв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orm"/>
          <p:cNvSpPr/>
          <p:nvPr/>
        </p:nvSpPr>
        <p:spPr>
          <a:xfrm>
            <a:off x="1979640" y="2133720"/>
            <a:ext cx="2170080" cy="9651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твержд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rm"/>
          <p:cNvSpPr/>
          <p:nvPr/>
        </p:nvSpPr>
        <p:spPr>
          <a:xfrm>
            <a:off x="4932360" y="2060640"/>
            <a:ext cx="2592360" cy="10382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/>
          <p:nvPr/>
        </p:nvCxnSpPr>
        <p:spPr>
          <a:xfrm>
            <a:off x="4536720" y="1628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 flipH="1">
            <a:off x="3492000" y="1197000"/>
            <a:ext cx="71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1197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643280" y="1268280"/>
            <a:ext cx="21600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C79D-3F75-4780-8EC2-5D1D8A1D68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476360" y="2780640"/>
            <a:ext cx="6767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941c"/>
                </a:solidFill>
                <a:latin typeface="Times New Roman"/>
              </a:rPr>
              <a:t>Кто не применяет новых средств, должен ждать новых бед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41c"/>
                </a:solidFill>
                <a:latin typeface="Times New Roman"/>
              </a:rPr>
              <a:t>Ф. Бэко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6" descr="bacon_bacon_s"/>
          <p:cNvPicPr/>
          <p:nvPr/>
        </p:nvPicPr>
        <p:blipFill>
          <a:blip r:embed="rId2"/>
          <a:srcRect l="9680" t="0" r="9738" b="0"/>
          <a:stretch/>
        </p:blipFill>
        <p:spPr>
          <a:xfrm>
            <a:off x="6657840" y="333360"/>
            <a:ext cx="1798920" cy="22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0FD4-B415-4698-9CF8-81794FE21F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Утверждает: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1457280"/>
            <a:ext cx="7921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режим занятий обучающихс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программу развития О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вопрос о «школьной форме» для учащихс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-положение ОУ о порядке и условиях распределения стимулирующих выплат работникам учреж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90512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46EC-A82D-4F74-B414-3ECCE5C210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Распределяет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99640" y="980640"/>
            <a:ext cx="7797960" cy="5256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-по представлению директора ОУ стимулирующие выплаты педагога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-вносит рекомендации по распределению стимулирующих выплат непедагогическому персоналу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1E18-2BBD-4E12-B74B-113A9C87F2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Согласовывает по представлению директора учреждения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850160" cy="4753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смету расходования средств, полученных ОУ от уставной приносящей доход деятельности и из иных внебюджетных источ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компонент учебного пла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введение новых методик и технологий в образовательный процесс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изменения и дополнения правил внутреннего распорядка О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8F99-F921-44B4-9699-D94C125DC2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Вносит директору образовательного учреждения предложения в части: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705800" cy="4535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материально- технического обеспечения и оснащения образовательного процесса, оборудования помещений школы (в пределах имеющихся средст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создания в школе необходимых условий для организации питания, медицинского обслуживания обучаю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организация промежуточной и итоговой аттестации обучаю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мероприятий по охране и укреплению здоровья уча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развития воспитательной работы в учрежд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1403-4AB6-405E-BEED-0332DC56CE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1040" y="297000"/>
            <a:ext cx="7880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Участвует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7777440" cy="4969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в принятии решения о создании в ОУ общественных (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в том числе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детских и молодёжных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организаций (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объединений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) и запрашивает отчёт об их деятельност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в подготовке публичного доклада образовательного учреж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7CAA-E94B-4CFD-9A50-E06789CA73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Заслушивает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Отчёт директора образовательного учреждения по итогам учебного и финансового год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74F8-A3F9-4039-81E2-219AAE45ED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6400" y="379440"/>
            <a:ext cx="7880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Рассматривает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Иные вопросы, отнесённые к компетенции Управляющего Совета Уставом образовательного учреждения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155A-D7A6-4670-8A02-BEB5526981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Регулярно информирует: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643880" cy="4680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Участников образовательного процесса о своей деятельности и принимаемых решениях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CB0B-356C-4D12-BD8D-999DAC68F3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Коми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0"/>
                </a:solidFill>
                <a:latin typeface="Arial"/>
              </a:rPr>
              <a:t>Финансово – хозяйстве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0"/>
                </a:solidFill>
                <a:latin typeface="Arial"/>
              </a:rPr>
              <a:t>Учеб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0"/>
                </a:solidFill>
                <a:latin typeface="Arial"/>
              </a:rPr>
              <a:t>Организационно – прав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0"/>
                </a:solidFill>
                <a:latin typeface="Arial"/>
              </a:rPr>
              <a:t>Комиссия по работе с родителями и местным сообщест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537A-D380-4750-AC36-309F53454E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оказатели реализации КПМ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066680" y="1752480"/>
          <a:ext cx="7620120" cy="4657680"/>
        </p:xfrm>
        <a:graphic>
          <a:graphicData uri="http://schemas.openxmlformats.org/drawingml/2006/table">
            <a:tbl>
              <a:tblPr/>
              <a:tblGrid>
                <a:gridCol w="2824200"/>
                <a:gridCol w="1198800"/>
                <a:gridCol w="1198440"/>
                <a:gridCol w="1198440"/>
                <a:gridCol w="120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6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 учебных предметов, по которым выпускникам ОУ предоставляется возможность пройти итоговую аттестацию в форме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ля выпускников ОУ сдающих ЕГЭ по трем и более учебным предметам,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Число обучающихся, на старшей ступени в расчете на одно общеобразовательное учреждение имеющую старшую ступ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4B34-158E-4206-9989-A7E909AB23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258920" y="2349360"/>
            <a:ext cx="5834160" cy="13669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908000" y="3573360"/>
            <a:ext cx="5834160" cy="13669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042920" y="981000"/>
            <a:ext cx="7632720" cy="10065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98100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1619280" y="1268280"/>
            <a:ext cx="583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ОВАНИЕ РОССИИ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Line 7"/>
          <p:cNvSpPr/>
          <p:nvPr/>
        </p:nvSpPr>
        <p:spPr>
          <a:xfrm flipH="1">
            <a:off x="6876720" y="1989000"/>
            <a:ext cx="431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 flipH="1">
            <a:off x="7236000" y="1989000"/>
            <a:ext cx="727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332000" y="256536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Концепция модернизации российского образования на период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до 2010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266920" y="3789360"/>
            <a:ext cx="49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Приоритетный национальный проект «Образовани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2700360" y="4724280"/>
            <a:ext cx="5834160" cy="13669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3059280" y="49417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Комплексный проект модернизации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WordArt 16"/>
          <p:cNvSpPr txBox="1"/>
          <p:nvPr/>
        </p:nvSpPr>
        <p:spPr>
          <a:xfrm>
            <a:off x="395280" y="189000"/>
            <a:ext cx="849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ГРАЦИЯ РОССИИ В МЕЖДУНАРОДНУЮ СИСТЕМУ ОБРАЗОВАНИЯ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7308720" y="1989000"/>
            <a:ext cx="86364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AE4F-9188-4315-86E4-BE6D4CD98B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ерспектива развития МОУ «СОШ№52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1680" y="1676520"/>
          <a:ext cx="8124480" cy="3828600"/>
        </p:xfrm>
        <a:graphic>
          <a:graphicData uri="http://schemas.openxmlformats.org/drawingml/2006/table">
            <a:tbl>
              <a:tblPr/>
              <a:tblGrid>
                <a:gridCol w="4062960"/>
                <a:gridCol w="406152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7 -2008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8 -200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класс – 26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 класс – 43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его: 69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класс – 25 человек ????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 класс – 26  челове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его 51 челов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ОБХОДИМО 58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9-201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10-201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класс – 50 человек (2 класс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 класс – 25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ТОГО: 75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класс – нет!!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 класс – 50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ОБХОДИМО 75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A485-515C-4334-9B36-3479308391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707"/>
          <p:cNvPicPr/>
          <p:nvPr/>
        </p:nvPicPr>
        <p:blipFill>
          <a:blip r:embed="rId2"/>
          <a:stretch/>
        </p:blipFill>
        <p:spPr>
          <a:xfrm>
            <a:off x="466560" y="260280"/>
            <a:ext cx="8280720" cy="4626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042920" y="4941720"/>
            <a:ext cx="7815240" cy="1861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Школа должна формировать целостную систему универсальных знаний, умений, навыков, а также опыт самостоятельной деятельности и личной ответственности обучающихся, то есть ключевые компетенции, определяющие современное качество образов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          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Концепция модернизации российского образования на период до 2010 года»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0" descr="sun"/>
          <p:cNvPicPr/>
          <p:nvPr/>
        </p:nvPicPr>
        <p:blipFill>
          <a:blip r:embed="rId5"/>
          <a:stretch/>
        </p:blipFill>
        <p:spPr>
          <a:xfrm>
            <a:off x="4932360" y="0"/>
            <a:ext cx="1295280" cy="117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B223-7499-4559-B00F-E1C7770F0C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7"/>
          <p:cNvSpPr txBox="1"/>
          <p:nvPr/>
        </p:nvSpPr>
        <p:spPr>
          <a:xfrm>
            <a:off x="2340000" y="476280"/>
            <a:ext cx="5191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атегические линии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Oval 13"/>
          <p:cNvSpPr/>
          <p:nvPr/>
        </p:nvSpPr>
        <p:spPr>
          <a:xfrm>
            <a:off x="6227640" y="1123920"/>
            <a:ext cx="2448000" cy="2376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41c"/>
                </a:solidFill>
                <a:latin typeface="Times New Roman"/>
              </a:rPr>
              <a:t>интелл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41c"/>
                </a:solidFill>
                <a:latin typeface="Times New Roman"/>
              </a:rPr>
              <a:t>ребенк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4"/>
          <p:cNvSpPr/>
          <p:nvPr/>
        </p:nvSpPr>
        <p:spPr>
          <a:xfrm>
            <a:off x="1116000" y="1123920"/>
            <a:ext cx="2448000" cy="244800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здоровь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ребенка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5"/>
          <p:cNvSpPr/>
          <p:nvPr/>
        </p:nvSpPr>
        <p:spPr>
          <a:xfrm rot="2583000">
            <a:off x="3878280" y="818640"/>
            <a:ext cx="552600" cy="1324080"/>
          </a:xfrm>
          <a:prstGeom prst="downArrow">
            <a:avLst>
              <a:gd name="adj1" fmla="val 50000"/>
              <a:gd name="adj2" fmla="val 5990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6"/>
          <p:cNvSpPr/>
          <p:nvPr/>
        </p:nvSpPr>
        <p:spPr>
          <a:xfrm rot="19105200">
            <a:off x="5338800" y="817200"/>
            <a:ext cx="576360" cy="1511280"/>
          </a:xfrm>
          <a:prstGeom prst="downArrow">
            <a:avLst>
              <a:gd name="adj1" fmla="val 50000"/>
              <a:gd name="adj2" fmla="val 6555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7"/>
          <p:cNvSpPr/>
          <p:nvPr/>
        </p:nvSpPr>
        <p:spPr>
          <a:xfrm rot="1002000">
            <a:off x="3912840" y="1360440"/>
            <a:ext cx="720720" cy="2808360"/>
          </a:xfrm>
          <a:prstGeom prst="downArrow">
            <a:avLst>
              <a:gd name="adj1" fmla="val 37889"/>
              <a:gd name="adj2" fmla="val 19764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1692360" y="3860640"/>
            <a:ext cx="2448000" cy="24480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родите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5580000" y="3860640"/>
            <a:ext cx="2448000" cy="2448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модерниза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школ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9"/>
          <p:cNvSpPr/>
          <p:nvPr/>
        </p:nvSpPr>
        <p:spPr>
          <a:xfrm rot="20062800">
            <a:off x="5222880" y="1300320"/>
            <a:ext cx="720720" cy="2592360"/>
          </a:xfrm>
          <a:prstGeom prst="downArrow">
            <a:avLst>
              <a:gd name="adj1" fmla="val 37889"/>
              <a:gd name="adj2" fmla="val 18244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B063-FA97-4B1C-88B0-579AA207CA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Ес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не боишься идт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перёд…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Ес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хочешь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зменений…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Ес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чувствуешь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ственност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за настоящее и будущее…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Ес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считаешь Школ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ВОЕЙ…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То живи по принцип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«Если не Я, то кто же?!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3AC7-0AA5-44A2-AEE1-BEBF4A750D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76107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Внедряемая модель НСОТ Саратовской области предполагает: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9360" y="2057040"/>
            <a:ext cx="79074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фференциацию заработной платы в зависимости от квалифик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ника ;сложности и интенсивности (специфики труда по типам и видам образовательных учреждений)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вышение стимулирующих функций оплаты труда , рост объём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имулирующих надбавок  в общем фонде оплаты труда до 20 % (в настоящее время – менее 3%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ершенствование механизмов учёта в оплате труда всех вид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ятельности работников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едрение механизма связи заработной платы с качеством 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зультативности труда, основного на исчислении рейтинг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дагога за учебный год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ершенствование системы аттестации управленческих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дагогических кад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9DC2-DF87-49E1-BFB4-5E4BF01E03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Ожидаемые результаты реализации модели НСОТ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вышение качества труда работников региональной систем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разования, повышение их социального статус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влечение в образовательные учре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сококвалифицированных работников и молодых педагог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вышение эффективности использования ресурсов в систем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разования, в т.ч. за счёт стимулирования оптимизации се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щеобразовательных учрежд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едрение механизмов государственно-общественного управления образование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3921-C98C-4360-AD0F-2EA61C67D0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Фонд оплаты труда образовательного учреждения рассчитывается по следующей формуле: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, гд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- фонд оплаты труда образовательного учреждения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ональный подушевой норматив финансирования на реализацию федерального государственного стандарта общего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 – поправочный коэффициент для данного учреж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 – доля фонда оплаты труда в нормативе на реализацию государственного стандарта, определяемая образовательным учреждением  самостоятельно в пределах коэффициентов, установленных Правительством Саратовской области и органами местного самоуправл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8880-6920-4FDB-8FE6-57C9C524C0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5:37:27Z</dcterms:created>
  <dc:creator>BOSS</dc:creator>
  <dc:description/>
  <dc:language>en-US</dc:language>
  <cp:lastModifiedBy>wsadmin</cp:lastModifiedBy>
  <dcterms:modified xsi:type="dcterms:W3CDTF">2008-04-08T06:51:34Z</dcterms:modified>
  <cp:revision>55</cp:revision>
  <dc:subject/>
  <dc:title>Для элективных курсов не существует образовательных стандартов. </dc:title>
</cp:coreProperties>
</file>