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481-88E4-4FB5-AE1E-599190F3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377-3565-4FEB-8625-C3E50FD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A20-C5DB-47AB-8DED-CE046D45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9FA-2D58-466E-83FB-2E22CDD2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B62-3F3C-491A-A675-FCE971E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6DD-9114-48E8-88AA-F6CF75E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26F9-419C-48C4-9002-62C12C3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2CE3-646B-47D3-8830-69853AF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D7DB-79D9-4FC2-BED5-3C81AB10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F1F-9E26-43C4-B09F-D1DF0C1D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AD29-ABC1-4282-910E-7EE5F44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A73-B912-4E19-B08C-879638D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BB4F-E527-4637-9909-32295D7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000-A1F5-4AD0-9540-7E67850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BFE-BF8C-4B55-A3CE-DEA22F2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2AC2-637B-405C-825F-345D973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98C-95D8-40D3-AF71-82D60AC8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3F7A-D20D-4540-B6F0-082D877D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8FF2-6208-4443-A033-71ADD90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CD9B-C89C-4DB0-8102-7F7700C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F4BF-6FAC-4D13-AE27-672332F2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13CE-806D-4F8C-ABCC-A2A992DE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8F4-6561-4A74-9BBC-76230C3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B879-0A09-4F10-9D6B-5BC160B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9A29-0848-4FDD-BCC5-DBF011C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61B5-DD09-4636-9F72-488D5D5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104E-1ECB-4D55-853D-0EAC94F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DB79-0C93-4184-B74A-B55768E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9C2E-7492-4155-A2FB-693DEFB6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4769-52D0-4877-B346-07B57913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A3B-CE0E-4541-90EA-BA88ADEB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10F-E823-4667-B145-CB00C2C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D19-B07A-4E0F-8781-7D8D07E5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FC3-53C0-4E7C-8968-932837D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528-13D5-40B5-B5BB-991ABFD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B6E-121D-4032-80AF-A03FC0B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C03-19DD-48B3-A558-C89DAE6A26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7D8-53DB-410E-B3D1-FE8A33C6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598D-BB41-485B-A8E2-F239CA1CD3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3E44-4EFD-498F-A54C-30BF4D7B5E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6776-0ED9-431E-9EC7-4D5FDAD43EF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94A-6812-4991-AF84-33A7909528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6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4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258920" y="2276640"/>
            <a:ext cx="712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«Новая система оплаты труда в муниципальном общеобразовательном учреждении «Средняя общеобразовательная школа №52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emblema"/>
          <p:cNvPicPr/>
          <p:nvPr/>
        </p:nvPicPr>
        <p:blipFill>
          <a:blip r:embed="rId2"/>
          <a:stretch/>
        </p:blipFill>
        <p:spPr>
          <a:xfrm>
            <a:off x="1116000" y="260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pmo"/>
          <p:cNvPicPr/>
          <p:nvPr/>
        </p:nvPicPr>
        <p:blipFill>
          <a:blip r:embed="rId3"/>
          <a:stretch/>
        </p:blipFill>
        <p:spPr>
          <a:xfrm>
            <a:off x="7236000" y="333360"/>
            <a:ext cx="1476360" cy="120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116000" y="609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г. Сар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028560" y="6093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4 апреля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24360" y="549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семин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1CC-1F7E-4520-BDC7-8EE3D6301A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Заработная плата педагогического работника 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П (100%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аз/п (42,97%) + ФОТнз/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,58%) + ФОТ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1,67%)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 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7,78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CD27-350B-4969-BF25-C19212E23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Расчет стоимости одного ученико-час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аз * 3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=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 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 +… + a1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в11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) * 52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п- стоимость 1 ученико-ча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2-количество недель в календар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4- количество недель в учеб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аз- часть ФОТ, отведенная на оплату часов аудиторной занят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дагогического персонала, непосредственно осуществляющего учебный процес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1, …а 11- количество обучающихся в каждой паралле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, ….в 11- годовое количество часов по учебному плану в кажд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лл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4D9E-65E8-4DFD-A35B-DF05EFD1EC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вышающие коэффициенты за сложность предмета (К)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русский язык, литература, иностранный язык,                            математика, 1 класс начальной школы – до 1,1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история, обществознание, география, биолог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тика, физика, химия, 2 – 4 классы нач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ы – до 1,1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раво, экономика, технология – до 1,0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астрономия, физическое воспитание, ИЗО, музы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рчение, ОБЖ – до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7C5-467A-40E9-849F-0B335D2B2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ставляющие доплаты за неаудиторную занятость (Днз)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1752480"/>
          <a:ext cx="7620120" cy="4500720"/>
        </p:xfrm>
        <a:graphic>
          <a:graphicData uri="http://schemas.openxmlformats.org/drawingml/2006/table">
            <a:tbl>
              <a:tblPr/>
              <a:tblGrid>
                <a:gridCol w="668520"/>
                <a:gridCol w="4219560"/>
                <a:gridCol w="27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ставляющая Д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от оклада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уществление функции классног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овод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нсультации и дополнительные занятия с  обучающимися по  утвержденному  графику, в том числе кружковая работа, в объеме не менее 4 ч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ка школьных команд, групп или отдельных учащихся к участию в олимпиадах, конкурсах, соревнованиях, смотрах и 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9BFF-E9B3-4B6D-85CD-7DDB0947A2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Распределение общего фонда оплаты труда образовательного учреждения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1197000"/>
          <a:ext cx="7490160" cy="5362200"/>
        </p:xfrm>
        <a:graphic>
          <a:graphicData uri="http://schemas.openxmlformats.org/drawingml/2006/table">
            <a:tbl>
              <a:tblPr/>
              <a:tblGrid>
                <a:gridCol w="1070640"/>
                <a:gridCol w="1069200"/>
                <a:gridCol w="1071000"/>
                <a:gridCol w="1067760"/>
                <a:gridCol w="1071000"/>
                <a:gridCol w="1069200"/>
                <a:gridCol w="1071360"/>
              </a:tblGrid>
              <a:tr h="9669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й фонд оплаты образовательного учреждения (ФОТо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педагогического персонала 65% (ФОТ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педагогического персонала 35% (ФОТн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ующая часть ФОТ 20% (ФОТ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часть ФОТпп 70% (ФОТ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ьная часть ФОТпп 30% (ФОТ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дминистративного управленческого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учебно-вспомогательно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младшего обсуживающ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удиторной занятности 85% (ФОТ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аудитной занятности 15%(ФОТн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A9D3-9C80-413A-AC8E-1804E3DA4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263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Управляющий Совет О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вляется коллегиальным органом самоуправления, осуществляющим в соответствии с Уставом учреждения решение отдельных вопросов, относящихся к компетенции учреждения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4005360"/>
            <a:ext cx="77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Принципы деятельности членов У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добровольность участия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коллегиальность принятия реш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глас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4815-0A5E-466E-BB80-D485CBD09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орядок создания У С 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74883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c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Инициатива школы по созданию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2. Решение учредителя о создании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3. Разработка: проекта новой редакции школьного Устава /внесения изменений в Уста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4. Избирательная кампания по выборам в УС (классные родительские собрания, конференция, общее собрание учащихся 10-11 классов (9х классов), общее собрание работников учрежде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5.Формирование У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E4A6-821D-4173-85FF-3109DDB104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руктура Со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484280"/>
            <a:ext cx="3600360" cy="2448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правляющ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333360"/>
            <a:ext cx="2232360" cy="1798560"/>
          </a:xfrm>
          <a:prstGeom prst="irregularSeal1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260280"/>
            <a:ext cx="2571840" cy="1995480"/>
          </a:xfrm>
          <a:prstGeom prst="irregularSeal1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реди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276640"/>
            <a:ext cx="2664000" cy="2447640"/>
          </a:xfrm>
          <a:prstGeom prst="irregularSeal1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000000">
            <a:off x="1187280" y="4797000"/>
            <a:ext cx="3097440" cy="172728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рудовой коллек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060640"/>
            <a:ext cx="2211480" cy="1274760"/>
          </a:xfrm>
          <a:prstGeom prst="irregularSeal1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005360"/>
            <a:ext cx="1873080" cy="257148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опечитель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2808360" cy="2951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оптированные чл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9491600">
            <a:off x="2700360" y="1483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7980800">
            <a:off x="2912040" y="3747240"/>
            <a:ext cx="2286000" cy="8305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11240 h 830520"/>
              <a:gd name="textAreaBottom" fmla="*/ 71928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3151800">
            <a:off x="4831560" y="746640"/>
            <a:ext cx="803160" cy="1262160"/>
          </a:xfrm>
          <a:custGeom>
            <a:avLst/>
            <a:gdLst>
              <a:gd name="textAreaLeft" fmla="*/ 107640 w 803160"/>
              <a:gd name="textAreaRight" fmla="*/ 695520 w 803160"/>
              <a:gd name="textAreaTop" fmla="*/ 220680 h 1262160"/>
              <a:gd name="textAreaBottom" fmla="*/ 915120 h 12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4228800">
            <a:off x="6059880" y="2329560"/>
            <a:ext cx="706320" cy="1508040"/>
          </a:xfrm>
          <a:custGeom>
            <a:avLst/>
            <a:gdLst>
              <a:gd name="textAreaLeft" fmla="*/ 94320 w 706320"/>
              <a:gd name="textAreaRight" fmla="*/ 612000 w 706320"/>
              <a:gd name="textAreaTop" fmla="*/ 263880 h 1508040"/>
              <a:gd name="textAreaBottom" fmla="*/ 109332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852640"/>
            <a:ext cx="1511280" cy="66204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5099000">
            <a:off x="4529160" y="3764520"/>
            <a:ext cx="1352520" cy="473400"/>
          </a:xfrm>
          <a:custGeom>
            <a:avLst/>
            <a:gdLst>
              <a:gd name="textAreaLeft" fmla="*/ 236520 w 1352520"/>
              <a:gd name="textAreaRight" fmla="*/ 980640 w 1352520"/>
              <a:gd name="textAreaTop" fmla="*/ 63360 h 473400"/>
              <a:gd name="textAreaBottom" fmla="*/ 410040 h 47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1717400">
            <a:off x="5439600" y="3317400"/>
            <a:ext cx="1265400" cy="9763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793-7A1D-44C4-9D11-6C04C9EA9B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дачи Управляющего Совета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9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ределение основных направлений развития обще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повышение эффективности финансово- экономической деятельности ОУ, стимулирование труда его рабо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действие созданию в ОУ оптимальных условий и форм организации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контроль за соблюдением надлежащих условий обучения, воспитания и труда в ОУ, сохранения и укрепления здоровья обучающихся, за целевым и рациональным расходованием финансовых сред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участие в рассмотрении конфликтных ситуаций между участниками образовательного процесса в случаях, когда это необходи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21C-599E-4F8B-981E-00596363D7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00720" y="1197000"/>
            <a:ext cx="647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1268280"/>
            <a:ext cx="1008360" cy="396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42920" y="1197000"/>
            <a:ext cx="576360" cy="403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76360" y="1268280"/>
            <a:ext cx="1511280" cy="410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68360" y="1268280"/>
            <a:ext cx="935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лномочия Управляющего Сове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Form"/>
          <p:cNvSpPr/>
          <p:nvPr/>
        </p:nvSpPr>
        <p:spPr>
          <a:xfrm>
            <a:off x="250920" y="5373720"/>
            <a:ext cx="2376360" cy="8636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слуш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rm"/>
          <p:cNvSpPr/>
          <p:nvPr/>
        </p:nvSpPr>
        <p:spPr>
          <a:xfrm>
            <a:off x="3203640" y="5300640"/>
            <a:ext cx="2736720" cy="865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матр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rm"/>
          <p:cNvSpPr/>
          <p:nvPr/>
        </p:nvSpPr>
        <p:spPr>
          <a:xfrm>
            <a:off x="6227640" y="5300640"/>
            <a:ext cx="2386080" cy="936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егулярно информиру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rm"/>
          <p:cNvSpPr/>
          <p:nvPr/>
        </p:nvSpPr>
        <p:spPr>
          <a:xfrm>
            <a:off x="395280" y="3716280"/>
            <a:ext cx="2817720" cy="1040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гласовы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rm"/>
          <p:cNvSpPr/>
          <p:nvPr/>
        </p:nvSpPr>
        <p:spPr>
          <a:xfrm>
            <a:off x="3780000" y="3716280"/>
            <a:ext cx="180972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но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rm"/>
          <p:cNvSpPr/>
          <p:nvPr/>
        </p:nvSpPr>
        <p:spPr>
          <a:xfrm>
            <a:off x="6156360" y="3716280"/>
            <a:ext cx="194472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а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rm"/>
          <p:cNvSpPr/>
          <p:nvPr/>
        </p:nvSpPr>
        <p:spPr>
          <a:xfrm>
            <a:off x="1979640" y="2133720"/>
            <a:ext cx="217008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4932360" y="2060640"/>
            <a:ext cx="259236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4536720" y="16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flipH="1">
            <a:off x="3492000" y="1197000"/>
            <a:ext cx="71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19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643280" y="1268280"/>
            <a:ext cx="21600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0E17-691B-4072-9AA5-BFDB782F3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476360" y="2780640"/>
            <a:ext cx="676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941c"/>
                </a:solidFill>
                <a:latin typeface="Times New Roman"/>
              </a:rPr>
              <a:t>Кто не применяет новых средств, должен ждать новых бед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Ф. Бэко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bacon_bacon_s"/>
          <p:cNvPicPr/>
          <p:nvPr/>
        </p:nvPicPr>
        <p:blipFill>
          <a:blip r:embed="rId2"/>
          <a:srcRect l="9680" t="0" r="9738" b="0"/>
          <a:stretch/>
        </p:blipFill>
        <p:spPr>
          <a:xfrm>
            <a:off x="6657840" y="333360"/>
            <a:ext cx="179892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0C0B-4F3F-47BC-A05F-CBA8538D12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Утверждает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457280"/>
            <a:ext cx="792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режим занятий обучаю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программу развития О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опрос о «школьной форме» для уча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-положение ОУ о порядке и условиях распределения стимулирующих выплат работникам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1824-3C0D-4349-AAF8-182E55A69B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Распределяет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797960" cy="525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по представлению директора ОУ стимулирующие выплаты педагога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вносит рекомендации по распределению стимулирующих выплат непедагогическому персонал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1628-8132-4B81-8D45-3F673C998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огласовывает по представлению директора учреждения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50160" cy="475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смету расходования средств, полученных ОУ от уставной приносящей доход деятельности и из иных внебюджетных источ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компонент учебного пла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введение новых методик и технологий в образовательный процес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изменения и дополнения правил внутреннего распорядка О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FD1E-EDF3-4761-B239-B53DF024AD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носит директору образовательного учреждения предложения в части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05800" cy="453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атериально- технического обеспечения и оснащения образовательного процесса, оборудования помещений школы (в пределах имеющихся сред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здания в школе необходимых условий для организации питания, медицинского обслужива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организация промежуточной и итоговой аттестаци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мероприятий по охране и укреплению здоровья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развития воспитательной работы в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9CC-B287-4E3B-8ECE-F148477E18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297000"/>
            <a:ext cx="788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Участву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7440" cy="4969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ринятии решения о создании в ОУ общественных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в том числе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етских и молодёжных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организаций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объединений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 и запрашивает отчёт об их деятель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одготовке публичного доклада образовательного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9C8-39B7-4ECF-B49C-DE97494210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Заслуш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Отчёт директора образовательного учреждения по итогам учебного и финансового г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FB34-DCD3-4C35-8E96-C59FE9B8D4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6400" y="379440"/>
            <a:ext cx="7880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Рассматр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ные вопросы, отнесённые к компетенции Управляющего Совета Уставом образовательного учреждения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92E3-2F54-4104-9210-575B5068A9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Регулярно информирует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643880" cy="4680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Участников образовательного процесса о своей деятельности и принимаемых решени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41C5-35FC-4EFC-831A-1E647CF4E4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Коми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Финансово – хозяйст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Учеб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Организационно – прав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Комиссия по работе с родителями и местным сообще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4148-4B3D-49B5-AF36-C75B99087A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казатели реализации КПМ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66680" y="1752480"/>
          <a:ext cx="7620120" cy="4657680"/>
        </p:xfrm>
        <a:graphic>
          <a:graphicData uri="http://schemas.openxmlformats.org/drawingml/2006/table">
            <a:tbl>
              <a:tblPr/>
              <a:tblGrid>
                <a:gridCol w="2824200"/>
                <a:gridCol w="1198800"/>
                <a:gridCol w="1198440"/>
                <a:gridCol w="1198440"/>
                <a:gridCol w="120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учебных предметов, по которым выпускникам ОУ предоставляется возможность пройти итоговую аттестацию в форме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выпускников ОУ сдающих ЕГЭ по трем и более учебным предметам,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исло обучающихся, на старшей ступени в расчете на одно общеобразовательное учреждение имеющую старшую ступ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FC77-E5AD-4714-937B-7242BFC988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258920" y="2349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908000" y="3573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042920" y="981000"/>
            <a:ext cx="7632720" cy="10065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981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619280" y="1268280"/>
            <a:ext cx="58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 РОССИИ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6876720" y="1989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236000" y="1989000"/>
            <a:ext cx="72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Концепция модернизации российского образования на период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до 2010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266920" y="3789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Приоритетный национальный проект «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700360" y="472428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059280" y="4941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Комплексный проект модернизации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395280" y="189000"/>
            <a:ext cx="849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ЦИЯ РОССИИ В МЕЖДУНАРОДНУЮ СИСТЕМУ ОБРАЗОВАНИЯ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7308720" y="1989000"/>
            <a:ext cx="86364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D1E2-DAEA-4FF2-B632-3BACB685F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ерспектива развития МОУ «СОШ№52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1680" y="1676520"/>
          <a:ext cx="8124480" cy="3828600"/>
        </p:xfrm>
        <a:graphic>
          <a:graphicData uri="http://schemas.openxmlformats.org/drawingml/2006/table">
            <a:tbl>
              <a:tblPr/>
              <a:tblGrid>
                <a:gridCol w="4062960"/>
                <a:gridCol w="40615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-2008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8 -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43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: 69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5 человек ??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6  челове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51 челов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58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-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-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50 человек (2 кла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ОГО: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нет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5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E10-9CCE-4E27-9F7C-4D847A5AA5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707"/>
          <p:cNvPicPr/>
          <p:nvPr/>
        </p:nvPicPr>
        <p:blipFill>
          <a:blip r:embed="rId2"/>
          <a:stretch/>
        </p:blipFill>
        <p:spPr>
          <a:xfrm>
            <a:off x="466560" y="260280"/>
            <a:ext cx="8280720" cy="4626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042920" y="4941720"/>
            <a:ext cx="7815240" cy="1861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Школа должна формировать целостную систему универсальных знаний, умений, навыков, а также опыт самостоятельной деятельности и личной ответственности обучающихся, то есть ключевые компетенции, определяющие современное качеств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нцепция модернизации российского образования на период до 2010 года»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0" descr="sun"/>
          <p:cNvPicPr/>
          <p:nvPr/>
        </p:nvPicPr>
        <p:blipFill>
          <a:blip r:embed="rId5"/>
          <a:stretch/>
        </p:blipFill>
        <p:spPr>
          <a:xfrm>
            <a:off x="4932360" y="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742-6486-45A2-8E36-4C8533FED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7"/>
          <p:cNvSpPr txBox="1"/>
          <p:nvPr/>
        </p:nvSpPr>
        <p:spPr>
          <a:xfrm>
            <a:off x="2340000" y="476280"/>
            <a:ext cx="5191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егические линии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6227640" y="1123920"/>
            <a:ext cx="2448000" cy="2376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интелл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ребен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1116000" y="112392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здоровь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ребенка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/>
          <p:cNvSpPr/>
          <p:nvPr/>
        </p:nvSpPr>
        <p:spPr>
          <a:xfrm rot="2583000">
            <a:off x="3878280" y="818640"/>
            <a:ext cx="552600" cy="1324080"/>
          </a:xfrm>
          <a:prstGeom prst="downArrow">
            <a:avLst>
              <a:gd name="adj1" fmla="val 50000"/>
              <a:gd name="adj2" fmla="val 5990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6"/>
          <p:cNvSpPr/>
          <p:nvPr/>
        </p:nvSpPr>
        <p:spPr>
          <a:xfrm rot="19105200">
            <a:off x="5338800" y="817200"/>
            <a:ext cx="576360" cy="1511280"/>
          </a:xfrm>
          <a:prstGeom prst="downArrow">
            <a:avLst>
              <a:gd name="adj1" fmla="val 50000"/>
              <a:gd name="adj2" fmla="val 6555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7"/>
          <p:cNvSpPr/>
          <p:nvPr/>
        </p:nvSpPr>
        <p:spPr>
          <a:xfrm rot="1002000">
            <a:off x="3912840" y="1360440"/>
            <a:ext cx="720720" cy="2808360"/>
          </a:xfrm>
          <a:prstGeom prst="downArrow">
            <a:avLst>
              <a:gd name="adj1" fmla="val 37889"/>
              <a:gd name="adj2" fmla="val 1976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69236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родите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558000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модерниз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шк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9"/>
          <p:cNvSpPr/>
          <p:nvPr/>
        </p:nvSpPr>
        <p:spPr>
          <a:xfrm rot="20062800">
            <a:off x="5222880" y="1300320"/>
            <a:ext cx="720720" cy="2592360"/>
          </a:xfrm>
          <a:prstGeom prst="downArrow">
            <a:avLst>
              <a:gd name="adj1" fmla="val 37889"/>
              <a:gd name="adj2" fmla="val 18244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C7D5-F1A9-4DA2-A825-63D0A3DC3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не боишься идт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перёд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хоч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менений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чувству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ственнос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за настоящее и будущее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считаешь Школ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ВОЕЙ…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о живи по принцип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«Если не Я, то кто же?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3FAF-95A8-4233-A3D9-53D5717C4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107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Внедряемая модель НСОТ Саратовской области предполагает: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9360" y="2057040"/>
            <a:ext cx="7907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фференциацию заработной платы в зависимости от квалифик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ника ;сложности и интенсивности (специфики труда по типам и видам образовательных учреждений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стимулирующих функций оплаты труда , рост объё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ющих надбавок  в общем фонде оплаты труда до 20 % (в настоящее время – менее 3%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механизмов учёта в оплате труда всех ви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и работников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а связи заработной платы с качеством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ультативности труда, основного на исчислении рейтин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а за учебный г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системы аттестации управленческих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ических кад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46A-0F97-4582-A736-660390C75A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Ожидаемые результаты реализации модели НСОТ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качества труда работников региональной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повышение их социального стату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в образовательные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сококвалифицированных работников и молодых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эффективности использования ресурсов в систе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в т.ч. за счёт стимулирования оптимизации с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еобразовательных учрежд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ов государственно-общественного управления образован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DEE5-677A-4E24-BAF1-F26C7B757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Фонд оплаты труда образовательного учреждения рассчитывается по следующей формуле: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, г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- фонд оплаты труда образовательного учреждени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ональный подушевой норматив финансирования на реализацию федерального государственного стандарта общ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оправочный коэффициент для дан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– доля фонда оплаты труда в нормативе на реализацию государственного стандарта, определяемая образовательным учреждением  самостоятельно в пределах коэффициентов, установленных Правительством Саратовской области и органами местного самоу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BC17-2EA9-4B50-9174-DC99C1F9A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5:37:27Z</dcterms:created>
  <dc:creator>BOSS</dc:creator>
  <dc:description/>
  <dc:language>en-US</dc:language>
  <cp:lastModifiedBy>wsadmin</cp:lastModifiedBy>
  <dcterms:modified xsi:type="dcterms:W3CDTF">2008-04-08T06:51:34Z</dcterms:modified>
  <cp:revision>55</cp:revision>
  <dc:subject/>
  <dc:title>Для элективных курсов не существует образовательных стандартов. </dc:title>
</cp:coreProperties>
</file>